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png" ContentType="image/pn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A8E75-1247-484E-B6F9-58E9CD17F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9A250-B220-4A37-A3C0-C636E6483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5A8D5-8A5C-41FF-B204-DAB508E93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A4B5F-BD5A-4882-94B9-AEC1F7269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82EC1-56C9-48C6-B3AA-CBBA7EB06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F1A2C-11F7-47C2-98F2-CF7BA194E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D6749-4C77-49C1-91DC-1CD28B94A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D5164-1D31-4C46-9DC1-A451715DE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970DB-7853-4A51-A190-8EDC8A9D2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6B43B-19F2-44ED-8597-824F0B236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5F6E6-EC67-4A7E-8D14-05847425B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F90F5-5853-4185-B76F-EF45ACB2D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96DAB-0032-464E-82DB-060DFBD976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645000"/>
            <a:ext cx="845964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0" lang="en-US" sz="5400" spc="-1" strike="noStrike">
                <a:solidFill>
                  <a:srgbClr val="0000cc"/>
                </a:solidFill>
                <a:latin typeface="Times New Roman"/>
              </a:rPr>
              <a:t>«Мы живем, под собою не            чуя страны»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Times New Roman"/>
              </a:rPr>
              <a:t>                       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519240" y="5157720"/>
            <a:ext cx="2324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О.Мандельшта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971640" y="692280"/>
            <a:ext cx="4248000" cy="283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80880" y="533520"/>
            <a:ext cx="8458200" cy="61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Times New Roman"/>
              </a:rPr>
              <a:t>Основополагающий вопрос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«Модернизация – это шаг вперед или дорога в никуда?..»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Times New Roman"/>
              </a:rPr>
              <a:t>Вопросы учебной темы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Что такое модернизация  и каковы ее этапы.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Пути и способы проведения модернизаци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Итоги модернизации и ее значени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>
            <a:hlinkClick r:id="rId1" action="ppaction://hlinksldjump"/>
          </p:cNvPr>
          <p:cNvSpPr/>
          <p:nvPr/>
        </p:nvSpPr>
        <p:spPr>
          <a:xfrm>
            <a:off x="8710560" y="6453360"/>
            <a:ext cx="433440" cy="404640"/>
          </a:xfrm>
          <a:custGeom>
            <a:avLst/>
            <a:gdLst>
              <a:gd name="textAreaLeft" fmla="*/ 25920 w 433440"/>
              <a:gd name="textAreaRight" fmla="*/ 407520 w 43344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3136" h="21600">
                <a:moveTo>
                  <a:pt x="0" y="0"/>
                </a:moveTo>
                <a:lnTo>
                  <a:pt x="23136" y="0"/>
                </a:lnTo>
                <a:lnTo>
                  <a:pt x="23136" y="21600"/>
                </a:lnTo>
                <a:lnTo>
                  <a:pt x="0" y="21600"/>
                </a:lnTo>
                <a:close/>
              </a:path>
              <a:path fill="lightenLess" w="23136" h="21600">
                <a:moveTo>
                  <a:pt x="0" y="0"/>
                </a:moveTo>
                <a:lnTo>
                  <a:pt x="23136" y="0"/>
                </a:lnTo>
                <a:lnTo>
                  <a:pt x="21736" y="1400"/>
                </a:lnTo>
                <a:lnTo>
                  <a:pt x="1400" y="1400"/>
                </a:lnTo>
                <a:close/>
              </a:path>
              <a:path fill="darken" w="23136" h="21600">
                <a:moveTo>
                  <a:pt x="23136" y="0"/>
                </a:moveTo>
                <a:lnTo>
                  <a:pt x="23136" y="21600"/>
                </a:lnTo>
                <a:lnTo>
                  <a:pt x="21736" y="20200"/>
                </a:lnTo>
                <a:lnTo>
                  <a:pt x="21736" y="1400"/>
                </a:lnTo>
                <a:close/>
              </a:path>
              <a:path fill="darkenLess" w="23136" h="21600">
                <a:moveTo>
                  <a:pt x="231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736" y="20200"/>
                </a:lnTo>
                <a:close/>
              </a:path>
              <a:path fill="lighten" w="231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136" h="21600">
                <a:moveTo>
                  <a:pt x="4562" y="3794"/>
                </a:moveTo>
                <a:lnTo>
                  <a:pt x="18574" y="10800"/>
                </a:lnTo>
                <a:lnTo>
                  <a:pt x="4562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755640" y="1484280"/>
            <a:ext cx="3960720" cy="297036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title"/>
          </p:nvPr>
        </p:nvSpPr>
        <p:spPr>
          <a:xfrm>
            <a:off x="324000" y="333000"/>
            <a:ext cx="88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Times New Roman"/>
              </a:rPr>
              <a:t>«Модернизация: планы и реальность»                                                              (буклет)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716360" y="3645000"/>
            <a:ext cx="4032360" cy="28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4000" y="333000"/>
            <a:ext cx="813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Times New Roman"/>
              </a:rPr>
              <a:t>«Трагедия крестьянина труженика»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24000" y="1484280"/>
            <a:ext cx="4103640" cy="30783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356000" y="2760840"/>
            <a:ext cx="4319640" cy="322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197000"/>
            <a:ext cx="944892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95280" y="2114640"/>
            <a:ext cx="3960720" cy="2970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755640" y="549360"/>
            <a:ext cx="8136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«Ведущие за собой. </a:t>
            </a:r>
            <a:br>
              <a:rPr sz="4400"/>
            </a:b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Стаханов и стахановцы»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0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4427640" y="3500280"/>
            <a:ext cx="388944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9280" y="476280"/>
            <a:ext cx="79930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Times New Roman"/>
              </a:rPr>
              <a:t>«Модернизация глазами современников»                                                           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611280" y="1557360"/>
            <a:ext cx="3809880" cy="28573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4427640" y="3367080"/>
            <a:ext cx="4176720" cy="31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3T07:58:03Z</dcterms:created>
  <dc:creator>учитель</dc:creator>
  <dc:description/>
  <dc:language>en-US</dc:language>
  <cp:lastModifiedBy>учитель</cp:lastModifiedBy>
  <dcterms:modified xsi:type="dcterms:W3CDTF">2007-03-28T19:10:47Z</dcterms:modified>
  <cp:revision>25</cp:revision>
  <dc:subject/>
  <dc:title>Презентация PowerPoint</dc:title>
</cp:coreProperties>
</file>