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58400" cy="7772400"/>
  <p:notesSz cx="6670675" cy="9925050"/>
  <p:custShowLst>
    <p:custShow name="Методические материалы" id="0">
      <p:sldLst>
        <p:sld r:id="rId6"/>
      </p:sldLst>
    </p:custShow>
    <p:custShow name="Дидактические материалы" id="1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B41D-B1AF-4D46-9892-6C6A1CF2A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697536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397240" y="4435200"/>
            <a:ext cx="697536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ACEE-73B1-4DF7-A0A3-0D322DFE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71680" y="197136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397240" y="443520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71680" y="443520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9435-3F63-45CA-B3AC-1BA7D092F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224568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55600" y="1971360"/>
            <a:ext cx="224568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113960" y="1971360"/>
            <a:ext cx="224568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397240" y="4435200"/>
            <a:ext cx="224568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755600" y="4435200"/>
            <a:ext cx="224568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113960" y="4435200"/>
            <a:ext cx="224568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3310-637E-4AE8-94D9-3082BA3E7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0278-43DD-4F4C-B6C1-C7BFFEB34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397240" y="1971360"/>
            <a:ext cx="697536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876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A9FF-73AC-47CC-93CF-7606FC0C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697536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C43D1-5C6B-4E72-BB5E-01EA1B75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340380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71680" y="1971360"/>
            <a:ext cx="340380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76AD-9621-4AE0-858E-6C06EE99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76714-B0D7-47F4-98B1-03674ACB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417760" y="1131840"/>
            <a:ext cx="67896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876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1529-8B8E-4AEA-B85D-351F460F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1680" y="1971360"/>
            <a:ext cx="340380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397240" y="443520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E057-15AA-45A5-8900-A9D983A6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397240" y="1971360"/>
            <a:ext cx="697536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876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013D-32B6-4961-AC77-4A218CE7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340380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71680" y="197136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71680" y="443520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566C-601D-4308-BD4D-14D573BF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71680" y="197136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397240" y="4435200"/>
            <a:ext cx="697536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263D-05C3-48FE-97FB-A4EE5629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697536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397240" y="4435200"/>
            <a:ext cx="697536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7617-E89D-4862-9515-F4447757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71680" y="197136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397240" y="443520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71680" y="443520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3720C-874C-46EA-BA47-602D4E196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224568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5600" y="1971360"/>
            <a:ext cx="224568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113960" y="1971360"/>
            <a:ext cx="224568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397240" y="4435200"/>
            <a:ext cx="224568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755600" y="4435200"/>
            <a:ext cx="224568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113960" y="4435200"/>
            <a:ext cx="224568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D21A-03AD-429D-A053-EA2807AD2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697536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9D1F-E54B-41E8-83C2-64AA9452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340380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71680" y="1971360"/>
            <a:ext cx="340380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2FF7-30AF-4EFE-B114-F8257E76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9AFA-371F-4C24-BF44-044BB246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417760" y="1131840"/>
            <a:ext cx="67896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876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575F-5445-4AAF-82D8-48A4B039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71680" y="1971360"/>
            <a:ext cx="340380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397240" y="443520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05EC-AD85-4A2C-8754-3DE81A2F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340380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71680" y="197136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71680" y="443520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9D5C-987D-4060-8CBE-206E6FB9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71680" y="197136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397240" y="4435200"/>
            <a:ext cx="697536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2053-995A-4166-B393-338CB981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1f4ca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97240" y="1971360"/>
            <a:ext cx="697536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225360" indent="-225360"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25360"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41360" indent="-253800">
              <a:spcAft>
                <a:spcPts val="876"/>
              </a:spcAft>
              <a:buClr>
                <a:srgbClr val="000000"/>
              </a:buClr>
              <a:buFont typeface="45 Helvetica Light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82720" indent="-253800">
              <a:spcAft>
                <a:spcPts val="876"/>
              </a:spcAft>
              <a:buClr>
                <a:srgbClr val="000000"/>
              </a:buClr>
              <a:buFont typeface="45 Helvetica Light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92480" indent="-254160">
              <a:spcAft>
                <a:spcPts val="876"/>
              </a:spcAft>
              <a:buClr>
                <a:srgbClr val="000000"/>
              </a:buClr>
              <a:buFont typeface="45 Helvetica Light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292480" indent="-254160">
              <a:spcAft>
                <a:spcPts val="876"/>
              </a:spcAft>
              <a:buClr>
                <a:srgbClr val="000000"/>
              </a:buClr>
              <a:buFont typeface="45 Helvetica Light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292480" indent="-254160">
              <a:spcAft>
                <a:spcPts val="876"/>
              </a:spcAft>
              <a:buClr>
                <a:srgbClr val="000000"/>
              </a:buClr>
              <a:buFont typeface="45 Helvetica Light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7A65704-81E6-4D24-84EA-2213B10A184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87020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1f4ca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61760" y="708660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29000" y="708660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520" y="708660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4237BB7-2D28-4F7B-9175-56E8AC90CB4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0" t="84" r="0" b="0"/>
          <a:stretch/>
        </p:blipFill>
        <p:spPr>
          <a:xfrm>
            <a:off x="228600" y="228600"/>
            <a:ext cx="18716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student_samples/student_presentation/mnogogrannik1.ppt" TargetMode="External"/><Relationship Id="rId2" Type="http://schemas.openxmlformats.org/officeDocument/2006/relationships/hyperlink" Target="file:///student_samples/student_presentation/mnogogrannik1.ppt" TargetMode="External"/><Relationship Id="rId3" Type="http://schemas.openxmlformats.org/officeDocument/2006/relationships/hyperlink" Target="file:///student_samples/student_presentation/mnogogrannik1.ppt" TargetMode="External"/><Relationship Id="rId4" Type="http://schemas.openxmlformats.org/officeDocument/2006/relationships/hyperlink" Target="file:///student_samples/student_publication/&#1048;&#1089;&#1090;&#1086;&#1088;&#1080;&#1103;.pub" TargetMode="External"/><Relationship Id="rId5" Type="http://schemas.openxmlformats.org/officeDocument/2006/relationships/hyperlink" Target="file:///student_samples/student_publication/&#1048;&#1089;&#1090;&#1086;&#1088;&#1080;&#1103;.pub" TargetMode="External"/><Relationship Id="rId6" Type="http://schemas.openxmlformats.org/officeDocument/2006/relationships/hyperlink" Target="file:///project_support/student_support/&#1069;&#1081;&#1083;&#1077;&#1088;.xls" TargetMode="External"/><Relationship Id="rId7" Type="http://schemas.openxmlformats.org/officeDocument/2006/relationships/hyperlink" Target="file:///project_support/student_support/&#1069;&#1081;&#1083;&#1077;&#1088;.xls" TargetMode="External"/><Relationship Id="rId8" Type="http://schemas.openxmlformats.org/officeDocument/2006/relationships/hyperlink" Target="file:///project_support/student_support/&#1069;&#1081;&#1083;&#1077;&#1088;.xls" TargetMode="External"/><Relationship Id="rId9" Type="http://schemas.openxmlformats.org/officeDocument/2006/relationships/hyperlink" Target="file:///project_support/student_support/&#1050;&#1072;&#1088;&#1090;&#1086;&#1095;&#1082;&#1080;.doc" TargetMode="External"/><Relationship Id="rId10" Type="http://schemas.openxmlformats.org/officeDocument/2006/relationships/hyperlink" Target="file:///project_support/teacher_support/SAIT2.htm" TargetMode="External"/><Relationship Id="rId11" Type="http://schemas.openxmlformats.org/officeDocument/2006/relationships/hyperlink" Target="file:///project_support/teacher_support/SAIT2.htm" TargetMode="External"/><Relationship Id="rId12" Type="http://schemas.openxmlformats.org/officeDocument/2006/relationships/hyperlink" Target="file:///project_support/teacher_support/SAIT2.htm" TargetMode="Externa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045200" y="214200"/>
            <a:ext cx="2791080" cy="44499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157560" y="611820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лич, 2004 г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76480" y="1365120"/>
            <a:ext cx="561672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Тема учебного проект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вильные многогранники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92480" y="4894200"/>
            <a:ext cx="22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ca1"/>
                </a:solidFill>
                <a:latin typeface="Garamond"/>
              </a:rPr>
              <a:t>Автор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444840" y="4894200"/>
            <a:ext cx="63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ишневская Н.В., учитель математики средней школы №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81480" y="6837840"/>
            <a:ext cx="23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©,Вишневская Н.В.,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365200" y="1077840"/>
            <a:ext cx="715968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ca1"/>
                </a:solidFill>
                <a:latin typeface="Garamond"/>
              </a:rPr>
              <a:t>Творческое название</a:t>
            </a:r>
            <a:r>
              <a:rPr b="1" lang="en-US" sz="2800" spc="-1" strike="noStrike">
                <a:solidFill>
                  <a:srgbClr val="1f4ca1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1f4ca1"/>
                </a:solidFill>
                <a:latin typeface="Garamond"/>
              </a:rPr>
              <a:t>проект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еликолепная пятерка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ca1"/>
                </a:solidFill>
                <a:latin typeface="Garamond"/>
              </a:rPr>
              <a:t>Аннотац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previousslide"/>
          </p:cNvPr>
          <p:cNvSpPr/>
          <p:nvPr/>
        </p:nvSpPr>
        <p:spPr>
          <a:xfrm>
            <a:off x="8664480" y="7238880"/>
            <a:ext cx="357120" cy="204840"/>
          </a:xfrm>
          <a:custGeom>
            <a:avLst/>
            <a:gdLst>
              <a:gd name="textAreaLeft" fmla="*/ 12960 w 357120"/>
              <a:gd name="textAreaRight" fmla="*/ 344160 w 35712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37629" h="21600">
                <a:moveTo>
                  <a:pt x="0" y="0"/>
                </a:moveTo>
                <a:lnTo>
                  <a:pt x="37629" y="0"/>
                </a:lnTo>
                <a:lnTo>
                  <a:pt x="37629" y="21600"/>
                </a:lnTo>
                <a:lnTo>
                  <a:pt x="0" y="21600"/>
                </a:lnTo>
                <a:close/>
              </a:path>
              <a:path fill="lightenLess" w="37629" h="21600">
                <a:moveTo>
                  <a:pt x="0" y="0"/>
                </a:moveTo>
                <a:lnTo>
                  <a:pt x="37629" y="0"/>
                </a:lnTo>
                <a:lnTo>
                  <a:pt x="36229" y="1400"/>
                </a:lnTo>
                <a:lnTo>
                  <a:pt x="1400" y="1400"/>
                </a:lnTo>
                <a:close/>
              </a:path>
              <a:path fill="darken" w="37629" h="21600">
                <a:moveTo>
                  <a:pt x="37629" y="0"/>
                </a:moveTo>
                <a:lnTo>
                  <a:pt x="37629" y="21600"/>
                </a:lnTo>
                <a:lnTo>
                  <a:pt x="36229" y="20200"/>
                </a:lnTo>
                <a:lnTo>
                  <a:pt x="36229" y="1400"/>
                </a:lnTo>
                <a:close/>
              </a:path>
              <a:path fill="darkenLess" w="37629" h="21600">
                <a:moveTo>
                  <a:pt x="376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29" y="20200"/>
                </a:lnTo>
                <a:close/>
              </a:path>
              <a:path fill="lighten" w="376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29" h="21600">
                <a:moveTo>
                  <a:pt x="11808" y="10800"/>
                </a:moveTo>
                <a:lnTo>
                  <a:pt x="25821" y="3794"/>
                </a:lnTo>
                <a:lnTo>
                  <a:pt x="25821" y="17806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9023400" y="7226280"/>
            <a:ext cx="360360" cy="21600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6012" h="21600">
                <a:moveTo>
                  <a:pt x="0" y="0"/>
                </a:moveTo>
                <a:lnTo>
                  <a:pt x="36012" y="0"/>
                </a:lnTo>
                <a:lnTo>
                  <a:pt x="36012" y="21600"/>
                </a:lnTo>
                <a:lnTo>
                  <a:pt x="0" y="21600"/>
                </a:lnTo>
                <a:close/>
              </a:path>
              <a:path fill="lightenLess" w="36012" h="21600">
                <a:moveTo>
                  <a:pt x="0" y="0"/>
                </a:moveTo>
                <a:lnTo>
                  <a:pt x="36012" y="0"/>
                </a:lnTo>
                <a:lnTo>
                  <a:pt x="34612" y="1400"/>
                </a:lnTo>
                <a:lnTo>
                  <a:pt x="1400" y="1400"/>
                </a:lnTo>
                <a:close/>
              </a:path>
              <a:path fill="darken" w="36012" h="21600">
                <a:moveTo>
                  <a:pt x="36012" y="0"/>
                </a:moveTo>
                <a:lnTo>
                  <a:pt x="36012" y="21600"/>
                </a:lnTo>
                <a:lnTo>
                  <a:pt x="34612" y="20200"/>
                </a:lnTo>
                <a:lnTo>
                  <a:pt x="34612" y="1400"/>
                </a:lnTo>
                <a:close/>
              </a:path>
              <a:path fill="darkenLess" w="36012" h="21600">
                <a:moveTo>
                  <a:pt x="36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12" y="20200"/>
                </a:lnTo>
                <a:close/>
              </a:path>
              <a:path fill="lighten" w="36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12" h="21600">
                <a:moveTo>
                  <a:pt x="11000" y="3794"/>
                </a:moveTo>
                <a:lnTo>
                  <a:pt x="25012" y="10800"/>
                </a:lnTo>
                <a:lnTo>
                  <a:pt x="11000" y="17806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92480" y="2590920"/>
            <a:ext cx="7345080" cy="48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«Великолепная  пятерка»" рассчитан на учеников 11 классов. Он позволяет увидеть не только  "сухой" и строгий предмет, каким  привыкли видеть геометрию не только ученики, но  и учителя, а науку, которая связывает воедино разные предметы школьного курса, проникает в жизненное пространство каждого человека, учитывает опыт человечеств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сновное назначение – расширить рамки изучения темы, заставить учащихся проявить творческую активность,  развить потребность в познавательной деятельности, выработать навыки поиска важного и нужного в большом объеме информаци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процессе работы над проектом формируются навыки и умения общения с персональным компьютером, работы в определенной программной среде, навык работы в команд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08120" y="285840"/>
            <a:ext cx="7159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редмет математики настолько серьезен, что полезно не упускать случая сделать его немного занимательны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Блез Паска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76120" y="357120"/>
            <a:ext cx="7705800" cy="122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3200" spc="-1" strike="noStrike">
                <a:solidFill>
                  <a:srgbClr val="1f4ca1"/>
                </a:solidFill>
                <a:latin typeface="Garamond"/>
              </a:rPr>
              <a:t>  </a:t>
            </a:r>
            <a:r>
              <a:rPr b="1" lang="ru-RU" sz="3200" spc="-1" strike="noStrike">
                <a:solidFill>
                  <a:srgbClr val="1f4ca1"/>
                </a:solidFill>
                <a:latin typeface="Garamond"/>
              </a:rPr>
              <a:t>Основополагающий вопрос:</a:t>
            </a:r>
            <a:br>
              <a:rPr sz="2800"/>
            </a:br>
            <a:r>
              <a:rPr b="1" lang="ru-RU" sz="2600" spc="-1" strike="noStrike">
                <a:solidFill>
                  <a:srgbClr val="000000"/>
                </a:solidFill>
                <a:latin typeface="Garamond"/>
                <a:ea typeface="Times New Roman"/>
              </a:rPr>
              <a:t>Правильный многогранник красивая игрушка или основа мироздания?</a:t>
            </a:r>
            <a:r>
              <a:rPr b="1" lang="ru-RU" sz="800" spc="-1" strike="noStrike">
                <a:solidFill>
                  <a:srgbClr val="000000"/>
                </a:solidFill>
                <a:latin typeface="Garamond"/>
                <a:ea typeface="Times New Roman"/>
              </a:rPr>
              <a:t>?</a:t>
            </a:r>
            <a:r>
              <a:rPr b="0" lang="ru-RU" sz="800" spc="-1" strike="noStrike">
                <a:solidFill>
                  <a:srgbClr val="1f4ca1"/>
                </a:solidFill>
                <a:latin typeface="Garamond"/>
              </a:rPr>
              <a:t> </a:t>
            </a:r>
            <a:endParaRPr b="0" lang="en-US" sz="8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81200" y="3165120"/>
            <a:ext cx="7005600" cy="57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6000"/>
          </a:bodyPr>
          <a:p>
            <a:pPr marL="86400" indent="0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3200" spc="-1" strike="noStrike">
                <a:solidFill>
                  <a:srgbClr val="1f4ca1"/>
                </a:solidFill>
                <a:latin typeface="Garamond"/>
              </a:rPr>
              <a:t>Темы исследований учащих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nextslide"/>
          </p:cNvPr>
          <p:cNvSpPr/>
          <p:nvPr/>
        </p:nvSpPr>
        <p:spPr>
          <a:xfrm>
            <a:off x="9050400" y="7253280"/>
            <a:ext cx="360360" cy="21600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6012" h="21600">
                <a:moveTo>
                  <a:pt x="0" y="0"/>
                </a:moveTo>
                <a:lnTo>
                  <a:pt x="36012" y="0"/>
                </a:lnTo>
                <a:lnTo>
                  <a:pt x="36012" y="21600"/>
                </a:lnTo>
                <a:lnTo>
                  <a:pt x="0" y="21600"/>
                </a:lnTo>
                <a:close/>
              </a:path>
              <a:path fill="lightenLess" w="36012" h="21600">
                <a:moveTo>
                  <a:pt x="0" y="0"/>
                </a:moveTo>
                <a:lnTo>
                  <a:pt x="36012" y="0"/>
                </a:lnTo>
                <a:lnTo>
                  <a:pt x="34612" y="1400"/>
                </a:lnTo>
                <a:lnTo>
                  <a:pt x="1400" y="1400"/>
                </a:lnTo>
                <a:close/>
              </a:path>
              <a:path fill="darken" w="36012" h="21600">
                <a:moveTo>
                  <a:pt x="36012" y="0"/>
                </a:moveTo>
                <a:lnTo>
                  <a:pt x="36012" y="21600"/>
                </a:lnTo>
                <a:lnTo>
                  <a:pt x="34612" y="20200"/>
                </a:lnTo>
                <a:lnTo>
                  <a:pt x="34612" y="1400"/>
                </a:lnTo>
                <a:close/>
              </a:path>
              <a:path fill="darkenLess" w="36012" h="21600">
                <a:moveTo>
                  <a:pt x="36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12" y="20200"/>
                </a:lnTo>
                <a:close/>
              </a:path>
              <a:path fill="lighten" w="36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12" h="21600">
                <a:moveTo>
                  <a:pt x="11000" y="3794"/>
                </a:moveTo>
                <a:lnTo>
                  <a:pt x="25012" y="10800"/>
                </a:lnTo>
                <a:lnTo>
                  <a:pt x="11000" y="17806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previousslide"/>
          </p:cNvPr>
          <p:cNvSpPr/>
          <p:nvPr/>
        </p:nvSpPr>
        <p:spPr>
          <a:xfrm>
            <a:off x="8694720" y="7253280"/>
            <a:ext cx="360360" cy="21600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6012" h="21600">
                <a:moveTo>
                  <a:pt x="0" y="0"/>
                </a:moveTo>
                <a:lnTo>
                  <a:pt x="36012" y="0"/>
                </a:lnTo>
                <a:lnTo>
                  <a:pt x="36012" y="21600"/>
                </a:lnTo>
                <a:lnTo>
                  <a:pt x="0" y="21600"/>
                </a:lnTo>
                <a:close/>
              </a:path>
              <a:path fill="lightenLess" w="36012" h="21600">
                <a:moveTo>
                  <a:pt x="0" y="0"/>
                </a:moveTo>
                <a:lnTo>
                  <a:pt x="36012" y="0"/>
                </a:lnTo>
                <a:lnTo>
                  <a:pt x="34612" y="1400"/>
                </a:lnTo>
                <a:lnTo>
                  <a:pt x="1400" y="1400"/>
                </a:lnTo>
                <a:close/>
              </a:path>
              <a:path fill="darken" w="36012" h="21600">
                <a:moveTo>
                  <a:pt x="36012" y="0"/>
                </a:moveTo>
                <a:lnTo>
                  <a:pt x="36012" y="21600"/>
                </a:lnTo>
                <a:lnTo>
                  <a:pt x="34612" y="20200"/>
                </a:lnTo>
                <a:lnTo>
                  <a:pt x="34612" y="1400"/>
                </a:lnTo>
                <a:close/>
              </a:path>
              <a:path fill="darkenLess" w="36012" h="21600">
                <a:moveTo>
                  <a:pt x="36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12" y="20200"/>
                </a:lnTo>
                <a:close/>
              </a:path>
              <a:path fill="lighten" w="36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12" h="21600">
                <a:moveTo>
                  <a:pt x="11000" y="10800"/>
                </a:moveTo>
                <a:lnTo>
                  <a:pt x="25012" y="3794"/>
                </a:lnTo>
                <a:lnTo>
                  <a:pt x="25012" y="17806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81200" y="3741840"/>
            <a:ext cx="6913800" cy="29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9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Может ли существовать наш мир без многогранников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Aft>
                <a:spcPts val="9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Какое место занимали правильные многогранники в теориях ученых на различных исторических этапах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81200" y="1798560"/>
            <a:ext cx="7005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90360">
              <a:lnSpc>
                <a:spcPct val="80000"/>
              </a:lnSpc>
              <a:spcAft>
                <a:spcPts val="1400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3200" spc="-1" strike="noStrike">
                <a:solidFill>
                  <a:srgbClr val="1f4ca1"/>
                </a:solidFill>
                <a:latin typeface="Garamond"/>
              </a:rPr>
              <a:t>Вопросы учебной тем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60640" y="2517840"/>
            <a:ext cx="767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Многогранники. Правильные многогранн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149560" y="646200"/>
            <a:ext cx="7543800" cy="17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Формирование знаний о правильных многогранниках, их видах, свойствах правильных многогранников, умений применять их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71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9016920" y="7238880"/>
            <a:ext cx="355680" cy="204840"/>
          </a:xfrm>
          <a:custGeom>
            <a:avLst/>
            <a:gdLst>
              <a:gd name="textAreaLeft" fmla="*/ 12960 w 355680"/>
              <a:gd name="textAreaRight" fmla="*/ 342720 w 35568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37478" h="21600">
                <a:moveTo>
                  <a:pt x="0" y="0"/>
                </a:moveTo>
                <a:lnTo>
                  <a:pt x="37478" y="0"/>
                </a:lnTo>
                <a:lnTo>
                  <a:pt x="37478" y="21600"/>
                </a:lnTo>
                <a:lnTo>
                  <a:pt x="0" y="21600"/>
                </a:lnTo>
                <a:close/>
              </a:path>
              <a:path fill="lightenLess" w="37478" h="21600">
                <a:moveTo>
                  <a:pt x="0" y="0"/>
                </a:moveTo>
                <a:lnTo>
                  <a:pt x="37478" y="0"/>
                </a:lnTo>
                <a:lnTo>
                  <a:pt x="36078" y="1400"/>
                </a:lnTo>
                <a:lnTo>
                  <a:pt x="1400" y="1400"/>
                </a:lnTo>
                <a:close/>
              </a:path>
              <a:path fill="darken" w="37478" h="21600">
                <a:moveTo>
                  <a:pt x="37478" y="0"/>
                </a:moveTo>
                <a:lnTo>
                  <a:pt x="37478" y="21600"/>
                </a:lnTo>
                <a:lnTo>
                  <a:pt x="36078" y="20200"/>
                </a:lnTo>
                <a:lnTo>
                  <a:pt x="36078" y="1400"/>
                </a:lnTo>
                <a:close/>
              </a:path>
              <a:path fill="darkenLess" w="37478" h="21600">
                <a:moveTo>
                  <a:pt x="374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78" y="20200"/>
                </a:lnTo>
                <a:close/>
              </a:path>
              <a:path fill="lighten" w="374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78" h="21600">
                <a:moveTo>
                  <a:pt x="11732" y="3794"/>
                </a:moveTo>
                <a:lnTo>
                  <a:pt x="25745" y="10800"/>
                </a:lnTo>
                <a:lnTo>
                  <a:pt x="11732" y="17806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8664480" y="7238880"/>
            <a:ext cx="357120" cy="204840"/>
          </a:xfrm>
          <a:custGeom>
            <a:avLst/>
            <a:gdLst>
              <a:gd name="textAreaLeft" fmla="*/ 12960 w 357120"/>
              <a:gd name="textAreaRight" fmla="*/ 344160 w 35712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37629" h="21600">
                <a:moveTo>
                  <a:pt x="0" y="0"/>
                </a:moveTo>
                <a:lnTo>
                  <a:pt x="37629" y="0"/>
                </a:lnTo>
                <a:lnTo>
                  <a:pt x="37629" y="21600"/>
                </a:lnTo>
                <a:lnTo>
                  <a:pt x="0" y="21600"/>
                </a:lnTo>
                <a:close/>
              </a:path>
              <a:path fill="lightenLess" w="37629" h="21600">
                <a:moveTo>
                  <a:pt x="0" y="0"/>
                </a:moveTo>
                <a:lnTo>
                  <a:pt x="37629" y="0"/>
                </a:lnTo>
                <a:lnTo>
                  <a:pt x="36229" y="1400"/>
                </a:lnTo>
                <a:lnTo>
                  <a:pt x="1400" y="1400"/>
                </a:lnTo>
                <a:close/>
              </a:path>
              <a:path fill="darken" w="37629" h="21600">
                <a:moveTo>
                  <a:pt x="37629" y="0"/>
                </a:moveTo>
                <a:lnTo>
                  <a:pt x="37629" y="21600"/>
                </a:lnTo>
                <a:lnTo>
                  <a:pt x="36229" y="20200"/>
                </a:lnTo>
                <a:lnTo>
                  <a:pt x="36229" y="1400"/>
                </a:lnTo>
                <a:close/>
              </a:path>
              <a:path fill="darkenLess" w="37629" h="21600">
                <a:moveTo>
                  <a:pt x="376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29" y="20200"/>
                </a:lnTo>
                <a:close/>
              </a:path>
              <a:path fill="lighten" w="376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29" h="21600">
                <a:moveTo>
                  <a:pt x="11808" y="10800"/>
                </a:moveTo>
                <a:lnTo>
                  <a:pt x="25821" y="3794"/>
                </a:lnTo>
                <a:lnTo>
                  <a:pt x="25821" y="17806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62320" y="121932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20480" y="140760"/>
            <a:ext cx="6789960" cy="690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400" spc="-1" strike="noStrike">
                <a:solidFill>
                  <a:srgbClr val="1f4ca1"/>
                </a:solidFill>
                <a:latin typeface="Arial"/>
              </a:rPr>
              <a:t>Образовательные</a:t>
            </a:r>
            <a:r>
              <a:rPr b="1" lang="ru-RU" sz="2400" spc="-1" strike="noStrike">
                <a:solidFill>
                  <a:srgbClr val="1f4ca1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1f4ca1"/>
                </a:solidFill>
                <a:latin typeface="Arial"/>
              </a:rPr>
              <a:t>цели проекта:</a:t>
            </a:r>
            <a:endParaRPr b="0" lang="en-US" sz="24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49560" y="237348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ca1"/>
                </a:solidFill>
                <a:latin typeface="Arial"/>
              </a:rPr>
              <a:t>Развивающие цели проек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04840" y="2806560"/>
            <a:ext cx="7836120" cy="28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50000"/>
              </a:lnSpc>
              <a:spcAft>
                <a:spcPts val="825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aramond"/>
              </a:rPr>
              <a:t>Развитие познавательного интерес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50000"/>
              </a:lnSpc>
              <a:spcAft>
                <a:spcPts val="825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aramond"/>
                <a:ea typeface="Times New Roman"/>
              </a:rPr>
              <a:t>Развитие умений обобщать, абстрагировать и конкретизировать свойства изучаемых объект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50000"/>
              </a:lnSpc>
              <a:spcAft>
                <a:spcPts val="825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aramond"/>
                <a:ea typeface="Times New Roman"/>
              </a:rPr>
              <a:t>Развитие навыков работы со справочной литературой и поисковыми системам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92480" y="568656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ca1"/>
                </a:solidFill>
                <a:latin typeface="Arial"/>
              </a:rPr>
              <a:t>Воспитательные цели проек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22640" y="6118200"/>
            <a:ext cx="783576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50000"/>
              </a:lnSpc>
              <a:spcAft>
                <a:spcPts val="825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aramond"/>
                <a:ea typeface="Times New Roman"/>
              </a:rPr>
              <a:t>Привитие навыков работы в команд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50000"/>
              </a:lnSpc>
              <a:spcAft>
                <a:spcPts val="825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aramond"/>
                <a:ea typeface="Times New Roman"/>
              </a:rPr>
              <a:t>Систематизация знаний об окружающем мир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92480" y="501480"/>
            <a:ext cx="7057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92480" y="285840"/>
            <a:ext cx="69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ca1"/>
                </a:solidFill>
                <a:latin typeface="Garamond"/>
              </a:rPr>
              <a:t>Этапы и сроки проведения проек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9055080" y="7251840"/>
            <a:ext cx="355680" cy="204480"/>
          </a:xfrm>
          <a:custGeom>
            <a:avLst/>
            <a:gdLst>
              <a:gd name="textAreaLeft" fmla="*/ 12960 w 355680"/>
              <a:gd name="textAreaRight" fmla="*/ 342720 w 355680"/>
              <a:gd name="textAreaTop" fmla="*/ 12960 h 204480"/>
              <a:gd name="textAreaBottom" fmla="*/ 191520 h 204480"/>
            </a:gdLst>
            <a:ahLst/>
            <a:rect l="textAreaLeft" t="textAreaTop" r="textAreaRight" b="textAreaBottom"/>
            <a:pathLst>
              <a:path w="37544" h="21600">
                <a:moveTo>
                  <a:pt x="0" y="0"/>
                </a:moveTo>
                <a:lnTo>
                  <a:pt x="37544" y="0"/>
                </a:lnTo>
                <a:lnTo>
                  <a:pt x="37544" y="21600"/>
                </a:lnTo>
                <a:lnTo>
                  <a:pt x="0" y="21600"/>
                </a:lnTo>
                <a:close/>
              </a:path>
              <a:path fill="lightenLess" w="37544" h="21600">
                <a:moveTo>
                  <a:pt x="0" y="0"/>
                </a:moveTo>
                <a:lnTo>
                  <a:pt x="37544" y="0"/>
                </a:lnTo>
                <a:lnTo>
                  <a:pt x="36144" y="1400"/>
                </a:lnTo>
                <a:lnTo>
                  <a:pt x="1400" y="1400"/>
                </a:lnTo>
                <a:close/>
              </a:path>
              <a:path fill="darken" w="37544" h="21600">
                <a:moveTo>
                  <a:pt x="37544" y="0"/>
                </a:moveTo>
                <a:lnTo>
                  <a:pt x="37544" y="21600"/>
                </a:lnTo>
                <a:lnTo>
                  <a:pt x="36144" y="20200"/>
                </a:lnTo>
                <a:lnTo>
                  <a:pt x="36144" y="1400"/>
                </a:lnTo>
                <a:close/>
              </a:path>
              <a:path fill="darkenLess" w="37544" h="21600">
                <a:moveTo>
                  <a:pt x="375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44" y="20200"/>
                </a:lnTo>
                <a:close/>
              </a:path>
              <a:path fill="lighten" w="375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544" h="21600">
                <a:moveTo>
                  <a:pt x="11765" y="3794"/>
                </a:moveTo>
                <a:lnTo>
                  <a:pt x="25778" y="10800"/>
                </a:lnTo>
                <a:lnTo>
                  <a:pt x="11765" y="17806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previousslide"/>
          </p:cNvPr>
          <p:cNvSpPr/>
          <p:nvPr/>
        </p:nvSpPr>
        <p:spPr>
          <a:xfrm>
            <a:off x="8693280" y="7253280"/>
            <a:ext cx="357120" cy="204840"/>
          </a:xfrm>
          <a:custGeom>
            <a:avLst/>
            <a:gdLst>
              <a:gd name="textAreaLeft" fmla="*/ 12960 w 357120"/>
              <a:gd name="textAreaRight" fmla="*/ 344160 w 35712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37629" h="21600">
                <a:moveTo>
                  <a:pt x="0" y="0"/>
                </a:moveTo>
                <a:lnTo>
                  <a:pt x="37629" y="0"/>
                </a:lnTo>
                <a:lnTo>
                  <a:pt x="37629" y="21600"/>
                </a:lnTo>
                <a:lnTo>
                  <a:pt x="0" y="21600"/>
                </a:lnTo>
                <a:close/>
              </a:path>
              <a:path fill="lightenLess" w="37629" h="21600">
                <a:moveTo>
                  <a:pt x="0" y="0"/>
                </a:moveTo>
                <a:lnTo>
                  <a:pt x="37629" y="0"/>
                </a:lnTo>
                <a:lnTo>
                  <a:pt x="36229" y="1400"/>
                </a:lnTo>
                <a:lnTo>
                  <a:pt x="1400" y="1400"/>
                </a:lnTo>
                <a:close/>
              </a:path>
              <a:path fill="darken" w="37629" h="21600">
                <a:moveTo>
                  <a:pt x="37629" y="0"/>
                </a:moveTo>
                <a:lnTo>
                  <a:pt x="37629" y="21600"/>
                </a:lnTo>
                <a:lnTo>
                  <a:pt x="36229" y="20200"/>
                </a:lnTo>
                <a:lnTo>
                  <a:pt x="36229" y="1400"/>
                </a:lnTo>
                <a:close/>
              </a:path>
              <a:path fill="darkenLess" w="37629" h="21600">
                <a:moveTo>
                  <a:pt x="376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29" y="20200"/>
                </a:lnTo>
                <a:close/>
              </a:path>
              <a:path fill="lighten" w="376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29" h="21600">
                <a:moveTo>
                  <a:pt x="11808" y="10800"/>
                </a:moveTo>
                <a:lnTo>
                  <a:pt x="25821" y="3794"/>
                </a:lnTo>
                <a:lnTo>
                  <a:pt x="25821" y="17806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220480" y="861840"/>
            <a:ext cx="7456680" cy="6337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225360" indent="0">
              <a:lnSpc>
                <a:spcPct val="80000"/>
              </a:lnSpc>
              <a:spcAft>
                <a:spcPts val="788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Вводная беседа учителя, выбор темы проекта 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(1-й урок, 30 мину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25360">
              <a:lnSpc>
                <a:spcPct val="80000"/>
              </a:lnSpc>
              <a:spcAft>
                <a:spcPts val="788"/>
              </a:spcAft>
              <a:buClr>
                <a:srgbClr val="000000"/>
              </a:buClr>
              <a:buFont typeface="Garamond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Примерные темы и направления исслед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25360">
              <a:lnSpc>
                <a:spcPct val="80000"/>
              </a:lnSpc>
              <a:spcAft>
                <a:spcPts val="788"/>
              </a:spcAft>
              <a:buClr>
                <a:srgbClr val="000000"/>
              </a:buClr>
              <a:buFont typeface="Garamond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Требования и критерии оце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Aft>
                <a:spcPts val="788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Формирование творческих групп 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(1-й урок, 15 ми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25360">
              <a:lnSpc>
                <a:spcPct val="80000"/>
              </a:lnSpc>
              <a:spcAft>
                <a:spcPts val="788"/>
              </a:spcAft>
              <a:buClr>
                <a:srgbClr val="000000"/>
              </a:buClr>
              <a:buFont typeface="Garamond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Распределение поручений в коман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25360">
              <a:lnSpc>
                <a:spcPct val="80000"/>
              </a:lnSpc>
              <a:spcAft>
                <a:spcPts val="788"/>
              </a:spcAft>
              <a:buClr>
                <a:srgbClr val="000000"/>
              </a:buClr>
              <a:buFont typeface="Garamond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Изучение плана действий согласно выбранной р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Aft>
                <a:spcPts val="788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Подбор материала 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(Домашнее зада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25360">
              <a:lnSpc>
                <a:spcPct val="80000"/>
              </a:lnSpc>
              <a:spcAft>
                <a:spcPts val="788"/>
              </a:spcAft>
              <a:buClr>
                <a:srgbClr val="000000"/>
              </a:buClr>
              <a:buFont typeface="Garamond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Анализ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25360">
              <a:lnSpc>
                <a:spcPct val="80000"/>
              </a:lnSpc>
              <a:spcAft>
                <a:spcPts val="788"/>
              </a:spcAft>
              <a:buClr>
                <a:srgbClr val="000000"/>
              </a:buClr>
              <a:buFont typeface="Garamond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Определение источников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25360">
              <a:lnSpc>
                <a:spcPct val="80000"/>
              </a:lnSpc>
              <a:spcAft>
                <a:spcPts val="788"/>
              </a:spcAft>
              <a:buClr>
                <a:srgbClr val="000000"/>
              </a:buClr>
              <a:buFont typeface="Garamond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Определение способов сбора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25360">
              <a:lnSpc>
                <a:spcPct val="80000"/>
              </a:lnSpc>
              <a:spcAft>
                <a:spcPts val="788"/>
              </a:spcAft>
              <a:buClr>
                <a:srgbClr val="000000"/>
              </a:buClr>
              <a:buFont typeface="Garamond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Определение способа представления результ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Aft>
                <a:spcPts val="788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Создание презентации 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(2-й урок, домашнее зада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Aft>
                <a:spcPts val="788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Создание публикации  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(2- й  урок, домашнее зада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Aft>
                <a:spcPts val="788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Защита проведенных исследований 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(3-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4-й 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уро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25360">
              <a:lnSpc>
                <a:spcPct val="80000"/>
              </a:lnSpc>
              <a:spcAft>
                <a:spcPts val="788"/>
              </a:spcAft>
              <a:buClr>
                <a:srgbClr val="000000"/>
              </a:buClr>
              <a:buFont typeface="Garamond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Выступления груп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25360">
              <a:lnSpc>
                <a:spcPct val="80000"/>
              </a:lnSpc>
              <a:spcAft>
                <a:spcPts val="788"/>
              </a:spcAft>
              <a:buClr>
                <a:srgbClr val="000000"/>
              </a:buClr>
              <a:buFont typeface="Garamond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Практическая работа (по схеме «вертушка», используя дифференцированные зада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25360">
              <a:lnSpc>
                <a:spcPct val="80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иску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25360">
              <a:lnSpc>
                <a:spcPct val="80000"/>
              </a:lnSpc>
              <a:spcAft>
                <a:spcPts val="788"/>
              </a:spcAft>
              <a:buClr>
                <a:srgbClr val="000000"/>
              </a:buClr>
              <a:buFont typeface="Garamond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Подведение ито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0">
              <a:lnSpc>
                <a:spcPct val="80000"/>
              </a:lnSpc>
              <a:spcAft>
                <a:spcPts val="788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7760" y="430200"/>
            <a:ext cx="678996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3200" spc="-1" strike="noStrike">
                <a:solidFill>
                  <a:srgbClr val="1f4ca1"/>
                </a:solidFill>
                <a:latin typeface="Garamond"/>
              </a:rPr>
              <a:t>Структура учебно-методического пакета</a:t>
            </a:r>
            <a:endParaRPr b="0" lang="en-US" sz="32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149560" y="1365120"/>
            <a:ext cx="6696000" cy="6121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60360" indent="-360360" algn="just">
              <a:lnSpc>
                <a:spcPct val="100000"/>
              </a:lnSpc>
              <a:spcAft>
                <a:spcPts val="8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Описание учебного проекта и материалов УМ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just">
              <a:lnSpc>
                <a:spcPct val="100000"/>
              </a:lnSpc>
              <a:spcAft>
                <a:spcPts val="8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Образцы работ учащихся, отражающие результаты самостоятельных исследований включают две творческих разработки: мультимедийную презентацию </a:t>
            </a:r>
            <a:r>
              <a:rPr b="0" lang="ru-RU" sz="2000" spc="-1" strike="noStrike" u="sng">
                <a:solidFill>
                  <a:srgbClr val="993300"/>
                </a:solidFill>
                <a:uFillTx/>
                <a:latin typeface="Garamond"/>
                <a:ea typeface="Times New Roman"/>
                <a:hlinkClick r:id="rId1"/>
              </a:rPr>
              <a:t>«</a:t>
            </a:r>
            <a:r>
              <a:rPr b="0" lang="ru-RU" sz="2000" spc="-1" strike="noStrike" u="sng">
                <a:solidFill>
                  <a:srgbClr val="993300"/>
                </a:solidFill>
                <a:uFillTx/>
                <a:latin typeface="Garamond"/>
                <a:ea typeface="Times New Roman"/>
                <a:hlinkClick r:id="rId2"/>
              </a:rPr>
              <a:t>Ищем многогранники</a:t>
            </a:r>
            <a:r>
              <a:rPr b="0" lang="ru-RU" sz="2000" spc="-1" strike="noStrike" u="sng">
                <a:solidFill>
                  <a:srgbClr val="993300"/>
                </a:solidFill>
                <a:uFillTx/>
                <a:latin typeface="Garamond"/>
                <a:ea typeface="Times New Roman"/>
                <a:hlinkClick r:id="rId3"/>
              </a:rPr>
              <a:t>», 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публикацию </a:t>
            </a:r>
            <a:r>
              <a:rPr b="0" lang="ru-RU" sz="2000" spc="-1" strike="noStrike" u="sng">
                <a:solidFill>
                  <a:srgbClr val="993300"/>
                </a:solidFill>
                <a:uFillTx/>
                <a:latin typeface="Garamond"/>
                <a:ea typeface="Times New Roman"/>
                <a:hlinkClick r:id="rId4"/>
              </a:rPr>
              <a:t>«А в древности думали так…»</a:t>
            </a:r>
            <a:r>
              <a:rPr b="0" lang="ru-RU" sz="2000" spc="-1" strike="noStrike" u="sng">
                <a:solidFill>
                  <a:srgbClr val="993300"/>
                </a:solidFill>
                <a:uFillTx/>
                <a:latin typeface="Garamond"/>
                <a:ea typeface="Times New Roman"/>
                <a:hlinkClick r:id="rId5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в виде букле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just">
              <a:lnSpc>
                <a:spcPct val="100000"/>
              </a:lnSpc>
              <a:spcAft>
                <a:spcPts val="8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Критерии оцени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just">
              <a:lnSpc>
                <a:spcPct val="100000"/>
              </a:lnSpc>
              <a:spcAft>
                <a:spcPts val="8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Дидактические материалы: таблица в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Excel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 </a:t>
            </a:r>
            <a:r>
              <a:rPr b="0" lang="ru-RU" sz="2000" spc="-1" strike="noStrike" u="sng">
                <a:solidFill>
                  <a:srgbClr val="993300"/>
                </a:solidFill>
                <a:uFillTx/>
                <a:latin typeface="Garamond"/>
                <a:ea typeface="Times New Roman"/>
                <a:hlinkClick r:id="rId6"/>
              </a:rPr>
              <a:t>«</a:t>
            </a:r>
            <a:r>
              <a:rPr b="0" lang="ru-RU" sz="2000" spc="-1" strike="noStrike" u="sng">
                <a:solidFill>
                  <a:srgbClr val="993300"/>
                </a:solidFill>
                <a:uFillTx/>
                <a:latin typeface="Garamond"/>
                <a:ea typeface="Times New Roman"/>
                <a:hlinkClick r:id="rId7"/>
              </a:rPr>
              <a:t>Теорема Эйлера</a:t>
            </a:r>
            <a:r>
              <a:rPr b="0" lang="ru-RU" sz="2000" spc="-1" strike="noStrike" u="sng">
                <a:solidFill>
                  <a:srgbClr val="993300"/>
                </a:solidFill>
                <a:uFillTx/>
                <a:latin typeface="Garamond"/>
                <a:ea typeface="Times New Roman"/>
                <a:hlinkClick r:id="rId8"/>
              </a:rPr>
              <a:t>», </a:t>
            </a:r>
            <a:r>
              <a:rPr b="0" lang="ru-RU" sz="2000" spc="-1" strike="noStrike" u="sng">
                <a:solidFill>
                  <a:srgbClr val="993300"/>
                </a:solidFill>
                <a:uFillTx/>
                <a:latin typeface="Garamond"/>
                <a:ea typeface="Times New Roman"/>
                <a:hlinkClick r:id="rId9"/>
              </a:rPr>
              <a:t>карточки для практической работы по групп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just">
              <a:lnSpc>
                <a:spcPct val="100000"/>
              </a:lnSpc>
              <a:spcAft>
                <a:spcPts val="8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2000" spc="-1" strike="noStrike" u="sng">
                <a:solidFill>
                  <a:srgbClr val="993300"/>
                </a:solidFill>
                <a:uFillTx/>
                <a:latin typeface="Garamond"/>
                <a:ea typeface="Times New Roman"/>
                <a:hlinkClick r:id="rId10"/>
              </a:rPr>
              <a:t>Веб-сайт</a:t>
            </a:r>
            <a:r>
              <a:rPr b="0" lang="ru-RU" sz="2000" spc="-1" strike="noStrike" u="sng">
                <a:solidFill>
                  <a:srgbClr val="993300"/>
                </a:solidFill>
                <a:uFillTx/>
                <a:latin typeface="Garamond"/>
                <a:ea typeface="Times New Roman"/>
                <a:hlinkClick r:id="rId11"/>
              </a:rPr>
              <a:t> проекта </a:t>
            </a:r>
            <a:r>
              <a:rPr b="0" lang="ru-RU" sz="2000" spc="-1" strike="noStrike" u="sng">
                <a:solidFill>
                  <a:srgbClr val="993300"/>
                </a:solidFill>
                <a:uFillTx/>
                <a:latin typeface="Garamond"/>
                <a:ea typeface="Times New Roman"/>
                <a:hlinkClick r:id="rId12"/>
              </a:rPr>
              <a:t>«Правильная пятер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" action="ppaction://hlinkshowjump?jump=previousslide"/>
          </p:cNvPr>
          <p:cNvSpPr/>
          <p:nvPr/>
        </p:nvSpPr>
        <p:spPr>
          <a:xfrm>
            <a:off x="8991720" y="7223040"/>
            <a:ext cx="357120" cy="204840"/>
          </a:xfrm>
          <a:custGeom>
            <a:avLst/>
            <a:gdLst>
              <a:gd name="textAreaLeft" fmla="*/ 12960 w 357120"/>
              <a:gd name="textAreaRight" fmla="*/ 344160 w 35712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37629" h="21600">
                <a:moveTo>
                  <a:pt x="0" y="0"/>
                </a:moveTo>
                <a:lnTo>
                  <a:pt x="37629" y="0"/>
                </a:lnTo>
                <a:lnTo>
                  <a:pt x="37629" y="21600"/>
                </a:lnTo>
                <a:lnTo>
                  <a:pt x="0" y="21600"/>
                </a:lnTo>
                <a:close/>
              </a:path>
              <a:path fill="lightenLess" w="37629" h="21600">
                <a:moveTo>
                  <a:pt x="0" y="0"/>
                </a:moveTo>
                <a:lnTo>
                  <a:pt x="37629" y="0"/>
                </a:lnTo>
                <a:lnTo>
                  <a:pt x="36229" y="1400"/>
                </a:lnTo>
                <a:lnTo>
                  <a:pt x="1400" y="1400"/>
                </a:lnTo>
                <a:close/>
              </a:path>
              <a:path fill="darken" w="37629" h="21600">
                <a:moveTo>
                  <a:pt x="37629" y="0"/>
                </a:moveTo>
                <a:lnTo>
                  <a:pt x="37629" y="21600"/>
                </a:lnTo>
                <a:lnTo>
                  <a:pt x="36229" y="20200"/>
                </a:lnTo>
                <a:lnTo>
                  <a:pt x="36229" y="1400"/>
                </a:lnTo>
                <a:close/>
              </a:path>
              <a:path fill="darkenLess" w="37629" h="21600">
                <a:moveTo>
                  <a:pt x="376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29" y="20200"/>
                </a:lnTo>
                <a:close/>
              </a:path>
              <a:path fill="lighten" w="376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29" h="21600">
                <a:moveTo>
                  <a:pt x="11808" y="10800"/>
                </a:moveTo>
                <a:lnTo>
                  <a:pt x="25821" y="3794"/>
                </a:lnTo>
                <a:lnTo>
                  <a:pt x="25821" y="17806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nextslide"/>
          </p:cNvPr>
          <p:cNvSpPr/>
          <p:nvPr/>
        </p:nvSpPr>
        <p:spPr>
          <a:xfrm>
            <a:off x="9360000" y="7221600"/>
            <a:ext cx="355680" cy="204840"/>
          </a:xfrm>
          <a:custGeom>
            <a:avLst/>
            <a:gdLst>
              <a:gd name="textAreaLeft" fmla="*/ 12960 w 355680"/>
              <a:gd name="textAreaRight" fmla="*/ 342720 w 35568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37478" h="21600">
                <a:moveTo>
                  <a:pt x="0" y="0"/>
                </a:moveTo>
                <a:lnTo>
                  <a:pt x="37478" y="0"/>
                </a:lnTo>
                <a:lnTo>
                  <a:pt x="37478" y="21600"/>
                </a:lnTo>
                <a:lnTo>
                  <a:pt x="0" y="21600"/>
                </a:lnTo>
                <a:close/>
              </a:path>
              <a:path fill="lightenLess" w="37478" h="21600">
                <a:moveTo>
                  <a:pt x="0" y="0"/>
                </a:moveTo>
                <a:lnTo>
                  <a:pt x="37478" y="0"/>
                </a:lnTo>
                <a:lnTo>
                  <a:pt x="36078" y="1400"/>
                </a:lnTo>
                <a:lnTo>
                  <a:pt x="1400" y="1400"/>
                </a:lnTo>
                <a:close/>
              </a:path>
              <a:path fill="darken" w="37478" h="21600">
                <a:moveTo>
                  <a:pt x="37478" y="0"/>
                </a:moveTo>
                <a:lnTo>
                  <a:pt x="37478" y="21600"/>
                </a:lnTo>
                <a:lnTo>
                  <a:pt x="36078" y="20200"/>
                </a:lnTo>
                <a:lnTo>
                  <a:pt x="36078" y="1400"/>
                </a:lnTo>
                <a:close/>
              </a:path>
              <a:path fill="darkenLess" w="37478" h="21600">
                <a:moveTo>
                  <a:pt x="374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78" y="20200"/>
                </a:lnTo>
                <a:close/>
              </a:path>
              <a:path fill="lighten" w="374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78" h="21600">
                <a:moveTo>
                  <a:pt x="11732" y="3794"/>
                </a:moveTo>
                <a:lnTo>
                  <a:pt x="25745" y="10800"/>
                </a:lnTo>
                <a:lnTo>
                  <a:pt x="11732" y="17806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17760" y="57312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3200" spc="-1" strike="noStrike">
                <a:solidFill>
                  <a:srgbClr val="1f4ca1"/>
                </a:solidFill>
                <a:latin typeface="Garamond"/>
              </a:rPr>
              <a:t>Контактная информация</a:t>
            </a:r>
            <a:endParaRPr b="0" lang="en-US" sz="32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previousslide"/>
          </p:cNvPr>
          <p:cNvSpPr/>
          <p:nvPr/>
        </p:nvSpPr>
        <p:spPr>
          <a:xfrm>
            <a:off x="8666280" y="7253280"/>
            <a:ext cx="357120" cy="204840"/>
          </a:xfrm>
          <a:custGeom>
            <a:avLst/>
            <a:gdLst>
              <a:gd name="textAreaLeft" fmla="*/ 12960 w 357120"/>
              <a:gd name="textAreaRight" fmla="*/ 344160 w 35712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37629" h="21600">
                <a:moveTo>
                  <a:pt x="0" y="0"/>
                </a:moveTo>
                <a:lnTo>
                  <a:pt x="37629" y="0"/>
                </a:lnTo>
                <a:lnTo>
                  <a:pt x="37629" y="21600"/>
                </a:lnTo>
                <a:lnTo>
                  <a:pt x="0" y="21600"/>
                </a:lnTo>
                <a:close/>
              </a:path>
              <a:path fill="lightenLess" w="37629" h="21600">
                <a:moveTo>
                  <a:pt x="0" y="0"/>
                </a:moveTo>
                <a:lnTo>
                  <a:pt x="37629" y="0"/>
                </a:lnTo>
                <a:lnTo>
                  <a:pt x="36229" y="1400"/>
                </a:lnTo>
                <a:lnTo>
                  <a:pt x="1400" y="1400"/>
                </a:lnTo>
                <a:close/>
              </a:path>
              <a:path fill="darken" w="37629" h="21600">
                <a:moveTo>
                  <a:pt x="37629" y="0"/>
                </a:moveTo>
                <a:lnTo>
                  <a:pt x="37629" y="21600"/>
                </a:lnTo>
                <a:lnTo>
                  <a:pt x="36229" y="20200"/>
                </a:lnTo>
                <a:lnTo>
                  <a:pt x="36229" y="1400"/>
                </a:lnTo>
                <a:close/>
              </a:path>
              <a:path fill="darkenLess" w="37629" h="21600">
                <a:moveTo>
                  <a:pt x="376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29" y="20200"/>
                </a:lnTo>
                <a:close/>
              </a:path>
              <a:path fill="lighten" w="376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29" h="21600">
                <a:moveTo>
                  <a:pt x="11808" y="10800"/>
                </a:moveTo>
                <a:lnTo>
                  <a:pt x="25821" y="3794"/>
                </a:lnTo>
                <a:lnTo>
                  <a:pt x="25821" y="17806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endshow"/>
          </p:cNvPr>
          <p:cNvSpPr/>
          <p:nvPr/>
        </p:nvSpPr>
        <p:spPr>
          <a:xfrm>
            <a:off x="9029880" y="7251840"/>
            <a:ext cx="355320" cy="204480"/>
          </a:xfrm>
          <a:custGeom>
            <a:avLst/>
            <a:gdLst>
              <a:gd name="textAreaLeft" fmla="*/ 12960 w 355320"/>
              <a:gd name="textAreaRight" fmla="*/ 342360 w 355320"/>
              <a:gd name="textAreaTop" fmla="*/ 12960 h 204480"/>
              <a:gd name="textAreaBottom" fmla="*/ 191520 h 204480"/>
            </a:gdLst>
            <a:ahLst/>
            <a:rect l="textAreaLeft" t="textAreaTop" r="textAreaRight" b="textAreaBottom"/>
            <a:pathLst>
              <a:path w="37506" h="21600">
                <a:moveTo>
                  <a:pt x="0" y="0"/>
                </a:moveTo>
                <a:lnTo>
                  <a:pt x="37506" y="0"/>
                </a:lnTo>
                <a:lnTo>
                  <a:pt x="37506" y="21600"/>
                </a:lnTo>
                <a:lnTo>
                  <a:pt x="0" y="21600"/>
                </a:lnTo>
                <a:close/>
              </a:path>
              <a:path fill="lightenLess" w="37506" h="21600">
                <a:moveTo>
                  <a:pt x="0" y="0"/>
                </a:moveTo>
                <a:lnTo>
                  <a:pt x="37506" y="0"/>
                </a:lnTo>
                <a:lnTo>
                  <a:pt x="36106" y="1400"/>
                </a:lnTo>
                <a:lnTo>
                  <a:pt x="1400" y="1400"/>
                </a:lnTo>
                <a:close/>
              </a:path>
              <a:path fill="darken" w="37506" h="21600">
                <a:moveTo>
                  <a:pt x="37506" y="0"/>
                </a:moveTo>
                <a:lnTo>
                  <a:pt x="37506" y="21600"/>
                </a:lnTo>
                <a:lnTo>
                  <a:pt x="36106" y="20200"/>
                </a:lnTo>
                <a:lnTo>
                  <a:pt x="36106" y="1400"/>
                </a:lnTo>
                <a:close/>
              </a:path>
              <a:path fill="darkenLess" w="37506" h="21600">
                <a:moveTo>
                  <a:pt x="37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06" y="20200"/>
                </a:lnTo>
                <a:close/>
              </a:path>
              <a:path fill="lighten" w="37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506" h="21600">
                <a:moveTo>
                  <a:pt x="18753" y="3837"/>
                </a:moveTo>
                <a:lnTo>
                  <a:pt x="21329" y="6448"/>
                </a:lnTo>
                <a:lnTo>
                  <a:pt x="21329" y="4707"/>
                </a:lnTo>
                <a:lnTo>
                  <a:pt x="23105" y="4707"/>
                </a:lnTo>
                <a:lnTo>
                  <a:pt x="23105" y="8224"/>
                </a:lnTo>
                <a:lnTo>
                  <a:pt x="25716" y="10800"/>
                </a:lnTo>
                <a:lnTo>
                  <a:pt x="24062" y="10800"/>
                </a:lnTo>
                <a:lnTo>
                  <a:pt x="24062" y="17989"/>
                </a:lnTo>
                <a:lnTo>
                  <a:pt x="13444" y="17989"/>
                </a:lnTo>
                <a:lnTo>
                  <a:pt x="13444" y="10800"/>
                </a:lnTo>
                <a:lnTo>
                  <a:pt x="11790" y="10800"/>
                </a:lnTo>
                <a:close/>
              </a:path>
              <a:path fill="darkenLess" w="37506" h="21600">
                <a:moveTo>
                  <a:pt x="21329" y="6448"/>
                </a:moveTo>
                <a:lnTo>
                  <a:pt x="21329" y="4707"/>
                </a:lnTo>
                <a:lnTo>
                  <a:pt x="23105" y="4707"/>
                </a:lnTo>
                <a:lnTo>
                  <a:pt x="23105" y="8224"/>
                </a:lnTo>
                <a:close/>
              </a:path>
              <a:path fill="darkenLess" w="37506" h="21600">
                <a:moveTo>
                  <a:pt x="17830" y="14299"/>
                </a:moveTo>
                <a:lnTo>
                  <a:pt x="19675" y="14299"/>
                </a:lnTo>
                <a:lnTo>
                  <a:pt x="19675" y="17989"/>
                </a:lnTo>
                <a:lnTo>
                  <a:pt x="24062" y="17989"/>
                </a:lnTo>
                <a:lnTo>
                  <a:pt x="24062" y="10800"/>
                </a:lnTo>
                <a:lnTo>
                  <a:pt x="13444" y="10800"/>
                </a:lnTo>
                <a:lnTo>
                  <a:pt x="13444" y="17989"/>
                </a:lnTo>
                <a:lnTo>
                  <a:pt x="17830" y="17989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49560" y="1438200"/>
            <a:ext cx="7488000" cy="32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1349280" indent="-1349280"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630360"/>
                <a:tab algn="l" pos="15303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невская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349280" indent="-1349280"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630360"/>
                <a:tab algn="l" pos="15303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алья Владимировн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349280" indent="-1349280"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630360"/>
                <a:tab algn="l" pos="15303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рес: 15720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349280" indent="-1349280"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630360"/>
                <a:tab algn="l" pos="15303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тромская област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349280" indent="-1349280"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630360"/>
                <a:tab algn="l" pos="15303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Галич, ул. Фестивальная, д. 2, кв. 1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349280" indent="-1349280"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630360"/>
                <a:tab algn="l" pos="15303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349280" indent="-1349280"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630360"/>
                <a:tab algn="l" pos="15303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2-22 -77 (д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349280" indent="-1349280"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630360"/>
                <a:tab algn="l" pos="15303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12-13 (р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1T09:52:51Z</dcterms:created>
  <dc:creator>Терехина М.А., Шумилина И.В.</dc:creator>
  <dc:description/>
  <dc:language>en-US</dc:language>
  <cp:lastModifiedBy>учитель</cp:lastModifiedBy>
  <cp:lastPrinted>2001-07-20T22:27:51Z</cp:lastPrinted>
  <dcterms:modified xsi:type="dcterms:W3CDTF">2007-03-27T18:28:03Z</dcterms:modified>
  <cp:revision>63</cp:revision>
  <dc:subject>Мир глазами геометра</dc:subject>
  <dc:title>математика</dc:title>
</cp:coreProperties>
</file>