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image10.wmf" ContentType="image/x-wmf"/>
  <Override PartName="/ppt/media/image9.png" ContentType="image/png"/>
  <Override PartName="/ppt/media/image11.wmf" ContentType="image/x-wmf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9314A-261E-49A5-8423-49A4F12B1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A5C93-B871-4074-A0D7-F6043976A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EAB8C-BF7C-4516-8A77-7FB823235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B4B83-57D0-46F5-A43A-FEF03C2A7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2907B-258E-4ED4-BE78-ADF48FE87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C83AE-0A74-46EC-A9A7-31796C795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B3958-D441-42AF-9679-55C6F2BF3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1DFF4-44E8-4637-BCC3-8E527D4A2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17AB0-18E5-4F1A-890D-37429BE1B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F8B2C-6D27-441C-8882-00E8C2569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C36C7-4E78-419C-8D4F-6D7777CCC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7E155-52BA-43E5-B4A3-1774F5567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DC1ED-F884-47E9-91E9-3FC894AD9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0D04A-7E4A-4BA0-B1BD-E64700C89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A9D13-51CF-486F-A33D-316503637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852A8-5CCD-4713-AA59-74CEC6E06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E1FC2-97FB-47C8-9322-C27E7B057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80015-7382-4701-A7B9-F28D6A8AB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7A89F-E311-4D90-97CA-9CB71C15D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0445D-5B62-4008-A98B-FBEDE395D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A46C1-BBFA-4FB3-BA8B-37DCCEB50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0171A-9D36-4678-A97E-29748623C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D3069-11AE-45D4-B895-537E70730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5EA92-303A-44DC-B419-CA45AC757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ec1c2"/>
                </a:gs>
                <a:gs pos="100000">
                  <a:srgbClr val="d6edee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aeeef"/>
                </a:gs>
                <a:gs pos="100000">
                  <a:srgbClr val="d6ede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daeeef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ec1c2"/>
                </a:gs>
                <a:gs pos="100000">
                  <a:srgbClr val="d6edee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aeeef"/>
                </a:gs>
                <a:gs pos="100000">
                  <a:srgbClr val="d6edee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B839F-B45E-4C9C-B6E2-3760FA1360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d6edee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ec1c2"/>
                </a:gs>
                <a:gs pos="100000">
                  <a:srgbClr val="d6edee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ec1c2"/>
                </a:gs>
                <a:gs pos="100000">
                  <a:srgbClr val="d6edee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aeeef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aeeef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95EC2-2897-4CB1-B9CB-307AA08667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5.xml"/><Relationship Id="rId3" Type="http://schemas.openxmlformats.org/officeDocument/2006/relationships/slide" Target="slide9.xm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" Target="slide3.xml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-360" y="3213000"/>
            <a:ext cx="932508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абота выполнена учениками 11А класс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 rot="20831400">
            <a:off x="2553840" y="541080"/>
            <a:ext cx="3525840" cy="2100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Ищем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многогранники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-181080" y="0"/>
            <a:ext cx="932508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71280" y="244440"/>
            <a:ext cx="787068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Информационные ресурсы: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450720" algn="just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Arial"/>
              </a:rPr>
              <a:t>Глейзер Г.И.  - История математики в школе, М., Просвещение, 198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50720" algn="just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Arial"/>
              </a:rPr>
              <a:t>Левитин К.  - Геометрическая рапсодия, М., Знание, 189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50720" algn="just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Arial"/>
              </a:rPr>
              <a:t>Энциклопедический словарь юного математика, М., Педагогика, 198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50720" algn="just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Arial"/>
              </a:rPr>
              <a:t>«Открытая математика. Стереометрия 1.0», электрон.  диск, 200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5072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Arial"/>
              </a:rPr>
              <a:t>Сайт «Правильные многогранники» : http://www.tmn.fio.ru/works/26x/304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5072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33cc"/>
                </a:solidFill>
                <a:latin typeface="Arial"/>
              </a:rPr>
              <a:t>«Классификация геометрических тел» http://www.fio.samara.ru/works/35/geot/r_12.h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5072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Arial"/>
              </a:rPr>
              <a:t>«Многогранники в математике» http://penza.fio.ru/personal/21/2/2/praviln.h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71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>
            <a:hlinkClick r:id="" action="ppaction://hlinkshowjump?jump=firstslide"/>
          </p:cNvPr>
          <p:cNvSpPr/>
          <p:nvPr/>
        </p:nvSpPr>
        <p:spPr>
          <a:xfrm>
            <a:off x="8569440" y="6308640"/>
            <a:ext cx="574560" cy="549360"/>
          </a:xfrm>
          <a:custGeom>
            <a:avLst/>
            <a:gdLst>
              <a:gd name="textAreaLeft" fmla="*/ 35280 w 574560"/>
              <a:gd name="textAreaRight" fmla="*/ 539280 w 5745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2590" h="21600">
                <a:moveTo>
                  <a:pt x="0" y="0"/>
                </a:moveTo>
                <a:lnTo>
                  <a:pt x="22590" y="0"/>
                </a:lnTo>
                <a:lnTo>
                  <a:pt x="22590" y="21600"/>
                </a:lnTo>
                <a:lnTo>
                  <a:pt x="0" y="21600"/>
                </a:lnTo>
                <a:close/>
              </a:path>
              <a:path fill="lightenLess" w="22590" h="21600">
                <a:moveTo>
                  <a:pt x="0" y="0"/>
                </a:moveTo>
                <a:lnTo>
                  <a:pt x="22590" y="0"/>
                </a:lnTo>
                <a:lnTo>
                  <a:pt x="21190" y="1400"/>
                </a:lnTo>
                <a:lnTo>
                  <a:pt x="1400" y="1400"/>
                </a:lnTo>
                <a:close/>
              </a:path>
              <a:path fill="darken" w="22590" h="21600">
                <a:moveTo>
                  <a:pt x="22590" y="0"/>
                </a:moveTo>
                <a:lnTo>
                  <a:pt x="22590" y="21600"/>
                </a:lnTo>
                <a:lnTo>
                  <a:pt x="21190" y="20200"/>
                </a:lnTo>
                <a:lnTo>
                  <a:pt x="21190" y="1400"/>
                </a:lnTo>
                <a:close/>
              </a:path>
              <a:path fill="darkenLess" w="22590" h="21600">
                <a:moveTo>
                  <a:pt x="225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190" y="20200"/>
                </a:lnTo>
                <a:close/>
              </a:path>
              <a:path fill="lighten" w="225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590" h="21600">
                <a:moveTo>
                  <a:pt x="11295" y="3837"/>
                </a:moveTo>
                <a:lnTo>
                  <a:pt x="13871" y="6448"/>
                </a:lnTo>
                <a:lnTo>
                  <a:pt x="13871" y="4707"/>
                </a:lnTo>
                <a:lnTo>
                  <a:pt x="15647" y="4707"/>
                </a:lnTo>
                <a:lnTo>
                  <a:pt x="15647" y="8224"/>
                </a:lnTo>
                <a:lnTo>
                  <a:pt x="18258" y="10800"/>
                </a:lnTo>
                <a:lnTo>
                  <a:pt x="16604" y="10800"/>
                </a:lnTo>
                <a:lnTo>
                  <a:pt x="16604" y="17989"/>
                </a:lnTo>
                <a:lnTo>
                  <a:pt x="5986" y="17989"/>
                </a:lnTo>
                <a:lnTo>
                  <a:pt x="5986" y="10800"/>
                </a:lnTo>
                <a:lnTo>
                  <a:pt x="4332" y="10800"/>
                </a:lnTo>
                <a:close/>
              </a:path>
              <a:path fill="darkenLess" w="22590" h="21600">
                <a:moveTo>
                  <a:pt x="13871" y="6448"/>
                </a:moveTo>
                <a:lnTo>
                  <a:pt x="13871" y="4707"/>
                </a:lnTo>
                <a:lnTo>
                  <a:pt x="15647" y="4707"/>
                </a:lnTo>
                <a:lnTo>
                  <a:pt x="15647" y="8224"/>
                </a:lnTo>
                <a:close/>
              </a:path>
              <a:path fill="darkenLess" w="22590" h="21600">
                <a:moveTo>
                  <a:pt x="10372" y="14299"/>
                </a:moveTo>
                <a:lnTo>
                  <a:pt x="12218" y="14299"/>
                </a:lnTo>
                <a:lnTo>
                  <a:pt x="12218" y="17989"/>
                </a:lnTo>
                <a:lnTo>
                  <a:pt x="16604" y="17989"/>
                </a:lnTo>
                <a:lnTo>
                  <a:pt x="16604" y="10800"/>
                </a:lnTo>
                <a:lnTo>
                  <a:pt x="5986" y="10800"/>
                </a:lnTo>
                <a:lnTo>
                  <a:pt x="5986" y="17989"/>
                </a:lnTo>
                <a:lnTo>
                  <a:pt x="10372" y="17989"/>
                </a:lnTo>
                <a:close/>
              </a:path>
            </a:pathLst>
          </a:custGeom>
          <a:solidFill>
            <a:srgbClr val="e8f0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Давайте увлечемся?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3743280" cy="39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m-ET" sz="2400" spc="-1" strike="noStrike">
                <a:solidFill>
                  <a:srgbClr val="0033cc"/>
                </a:solidFill>
                <a:latin typeface="Arial"/>
              </a:rPr>
              <a:t>"Теория</a:t>
            </a:r>
            <a:r>
              <a:rPr b="0" lang="ru-RU" sz="2400" spc="-1" strike="noStrike">
                <a:solidFill>
                  <a:srgbClr val="0033cc"/>
                </a:solidFill>
                <a:latin typeface="Arial"/>
              </a:rPr>
              <a:t>  </a:t>
            </a:r>
            <a:r>
              <a:rPr b="0" lang="am-ET" sz="2400" spc="-1" strike="noStrike">
                <a:solidFill>
                  <a:srgbClr val="0033cc"/>
                </a:solidFill>
                <a:latin typeface="Arial"/>
              </a:rPr>
              <a:t>многогран</a:t>
            </a:r>
            <a:r>
              <a:rPr b="0" lang="ru-RU" sz="2400" spc="-1" strike="noStrike">
                <a:solidFill>
                  <a:srgbClr val="0033cc"/>
                </a:solidFill>
                <a:latin typeface="Arial"/>
              </a:rPr>
              <a:t> -</a:t>
            </a:r>
            <a:r>
              <a:rPr b="0" lang="am-ET" sz="2400" spc="-1" strike="noStrike">
                <a:solidFill>
                  <a:srgbClr val="0033cc"/>
                </a:solidFill>
                <a:latin typeface="Arial"/>
              </a:rPr>
              <a:t>ников, в частности выпуклых</a:t>
            </a:r>
            <a:r>
              <a:rPr b="0" lang="ru-RU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am-ET" sz="2400" spc="-1" strike="noStrike">
                <a:solidFill>
                  <a:srgbClr val="0033cc"/>
                </a:solidFill>
                <a:latin typeface="Arial"/>
              </a:rPr>
              <a:t>многогранни</a:t>
            </a:r>
            <a:r>
              <a:rPr b="0" lang="ru-RU" sz="2400" spc="-1" strike="noStrike">
                <a:solidFill>
                  <a:srgbClr val="0033cc"/>
                </a:solidFill>
                <a:latin typeface="Arial"/>
              </a:rPr>
              <a:t> –</a:t>
            </a:r>
            <a:r>
              <a:rPr b="0" lang="am-ET" sz="2400" spc="-1" strike="noStrike">
                <a:solidFill>
                  <a:srgbClr val="0033cc"/>
                </a:solidFill>
                <a:latin typeface="Arial"/>
              </a:rPr>
              <a:t>ков, - одна из самых увлекательных глав геометрии" - таково мнение русского математика</a:t>
            </a:r>
            <a:r>
              <a:rPr b="0" lang="ru-RU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am-ET" sz="2400" spc="-1" strike="noStrike">
                <a:solidFill>
                  <a:srgbClr val="0033cc"/>
                </a:solidFill>
                <a:latin typeface="Arial"/>
              </a:rPr>
              <a:t>Л.А.Люс</a:t>
            </a:r>
            <a:r>
              <a:rPr b="0" lang="ru-RU" sz="2400" spc="-1" strike="noStrike">
                <a:solidFill>
                  <a:srgbClr val="0033cc"/>
                </a:solidFill>
                <a:latin typeface="Arial"/>
              </a:rPr>
              <a:t> -</a:t>
            </a:r>
            <a:r>
              <a:rPr b="0" lang="am-ET" sz="2400" spc="-1" strike="noStrike">
                <a:solidFill>
                  <a:srgbClr val="0033cc"/>
                </a:solidFill>
                <a:latin typeface="Arial"/>
              </a:rPr>
              <a:t>тернака,</a:t>
            </a:r>
            <a:r>
              <a:rPr b="0" lang="ru-RU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am-ET" sz="2400" spc="-1" strike="noStrike">
                <a:solidFill>
                  <a:srgbClr val="0033cc"/>
                </a:solidFill>
                <a:latin typeface="Arial"/>
              </a:rPr>
              <a:t>много</a:t>
            </a:r>
            <a:r>
              <a:rPr b="0" lang="ru-RU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am-ET" sz="2400" spc="-1" strike="noStrike">
                <a:solidFill>
                  <a:srgbClr val="0033cc"/>
                </a:solidFill>
                <a:latin typeface="Arial"/>
              </a:rPr>
              <a:t>сделав</a:t>
            </a:r>
            <a:r>
              <a:rPr b="0" lang="ru-RU" sz="2400" spc="-1" strike="noStrike">
                <a:solidFill>
                  <a:srgbClr val="0033cc"/>
                </a:solidFill>
                <a:latin typeface="Arial"/>
              </a:rPr>
              <a:t> -</a:t>
            </a:r>
            <a:r>
              <a:rPr b="0" lang="am-ET" sz="2400" spc="-1" strike="noStrike">
                <a:solidFill>
                  <a:srgbClr val="0033cc"/>
                </a:solidFill>
                <a:latin typeface="Arial"/>
              </a:rPr>
              <a:t>шего именно в этой области математи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>
            <a:hlinkClick r:id="" action="ppaction://hlinkshowjump?jump=nextslide"/>
          </p:cNvPr>
          <p:cNvSpPr/>
          <p:nvPr/>
        </p:nvSpPr>
        <p:spPr>
          <a:xfrm>
            <a:off x="8532720" y="6308640"/>
            <a:ext cx="611280" cy="549360"/>
          </a:xfrm>
          <a:custGeom>
            <a:avLst/>
            <a:gdLst>
              <a:gd name="textAreaLeft" fmla="*/ 35280 w 611280"/>
              <a:gd name="textAreaRight" fmla="*/ 576000 w 61128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4033" h="21600">
                <a:moveTo>
                  <a:pt x="0" y="0"/>
                </a:moveTo>
                <a:lnTo>
                  <a:pt x="24033" y="0"/>
                </a:lnTo>
                <a:lnTo>
                  <a:pt x="24033" y="21600"/>
                </a:lnTo>
                <a:lnTo>
                  <a:pt x="0" y="21600"/>
                </a:lnTo>
                <a:close/>
              </a:path>
              <a:path fill="lightenLess" w="24033" h="21600">
                <a:moveTo>
                  <a:pt x="0" y="0"/>
                </a:moveTo>
                <a:lnTo>
                  <a:pt x="24033" y="0"/>
                </a:lnTo>
                <a:lnTo>
                  <a:pt x="22633" y="1400"/>
                </a:lnTo>
                <a:lnTo>
                  <a:pt x="1400" y="1400"/>
                </a:lnTo>
                <a:close/>
              </a:path>
              <a:path fill="darken" w="24033" h="21600">
                <a:moveTo>
                  <a:pt x="24033" y="0"/>
                </a:moveTo>
                <a:lnTo>
                  <a:pt x="24033" y="21600"/>
                </a:lnTo>
                <a:lnTo>
                  <a:pt x="22633" y="20200"/>
                </a:lnTo>
                <a:lnTo>
                  <a:pt x="22633" y="1400"/>
                </a:lnTo>
                <a:close/>
              </a:path>
              <a:path fill="darkenLess" w="24033" h="21600">
                <a:moveTo>
                  <a:pt x="240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3" y="20200"/>
                </a:lnTo>
                <a:close/>
              </a:path>
              <a:path fill="lighten" w="240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3" h="21600">
                <a:moveTo>
                  <a:pt x="5010" y="3794"/>
                </a:moveTo>
                <a:lnTo>
                  <a:pt x="19023" y="10800"/>
                </a:lnTo>
                <a:lnTo>
                  <a:pt x="5010" y="17806"/>
                </a:lnTo>
                <a:close/>
              </a:path>
            </a:pathLst>
          </a:custGeom>
          <a:solidFill>
            <a:srgbClr val="e8f0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rcRect l="13134" t="0" r="13055" b="0"/>
          <a:stretch/>
        </p:blipFill>
        <p:spPr>
          <a:xfrm>
            <a:off x="4932360" y="2060640"/>
            <a:ext cx="3240000" cy="329256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" restart="whenNotActive" nodeType="interactiveSeq" fill="hold">
                <p:stCondLst>
                  <p:cond evt="onClick">
                    <p:tgtEl>
                      <p:spTgt spid="104"/>
                    </p:tgtEl>
                  </p:cond>
                </p:stCondLst>
                <p:childTnLst>
                  <p:par>
                    <p:cTn id="32" fill="hold">
                      <p:stCondLst>
                        <p:cond evt="onClick">
                          <p:tgtEl>
                            <p:spTgt spid="104"/>
                          </p:tgtEl>
                        </p:cond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5" dur="1" fill="hold"/>
                                        <p:tgtEl>
                                          <p:spTgt spid="1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Цель исследования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70470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Выяснить, может ли существовать мир без правильных многогранников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Ход исследова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Мы рассмотрели правильные многогранники 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66ff"/>
                </a:solidFill>
                <a:uFillTx/>
                <a:latin typeface="Arial"/>
                <a:hlinkClick r:id="rId1" action="ppaction://hlinksldjump"/>
              </a:rPr>
              <a:t>природ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микробиолог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66ff"/>
                </a:solidFill>
                <a:uFillTx/>
                <a:latin typeface="Arial"/>
                <a:hlinkClick r:id="rId2" action="ppaction://hlinksldjump"/>
              </a:rPr>
              <a:t>искусств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геолог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игрушк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>
            <a:hlinkClick r:id="rId3" action="ppaction://hlinksldjump"/>
          </p:cNvPr>
          <p:cNvSpPr/>
          <p:nvPr/>
        </p:nvSpPr>
        <p:spPr>
          <a:xfrm>
            <a:off x="8675640" y="6453360"/>
            <a:ext cx="468360" cy="404640"/>
          </a:xfrm>
          <a:custGeom>
            <a:avLst/>
            <a:gdLst>
              <a:gd name="textAreaLeft" fmla="*/ 25920 w 468360"/>
              <a:gd name="textAreaRight" fmla="*/ 442440 w 468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4998" h="21600">
                <a:moveTo>
                  <a:pt x="0" y="0"/>
                </a:moveTo>
                <a:lnTo>
                  <a:pt x="24998" y="0"/>
                </a:lnTo>
                <a:lnTo>
                  <a:pt x="24998" y="21600"/>
                </a:lnTo>
                <a:lnTo>
                  <a:pt x="0" y="21600"/>
                </a:lnTo>
                <a:close/>
              </a:path>
              <a:path fill="lightenLess" w="24998" h="21600">
                <a:moveTo>
                  <a:pt x="0" y="0"/>
                </a:moveTo>
                <a:lnTo>
                  <a:pt x="24998" y="0"/>
                </a:lnTo>
                <a:lnTo>
                  <a:pt x="23598" y="1400"/>
                </a:lnTo>
                <a:lnTo>
                  <a:pt x="1400" y="1400"/>
                </a:lnTo>
                <a:close/>
              </a:path>
              <a:path fill="darken" w="24998" h="21600">
                <a:moveTo>
                  <a:pt x="24998" y="0"/>
                </a:moveTo>
                <a:lnTo>
                  <a:pt x="24998" y="21600"/>
                </a:lnTo>
                <a:lnTo>
                  <a:pt x="23598" y="20200"/>
                </a:lnTo>
                <a:lnTo>
                  <a:pt x="23598" y="1400"/>
                </a:lnTo>
                <a:close/>
              </a:path>
              <a:path fill="darkenLess" w="24998" h="21600">
                <a:moveTo>
                  <a:pt x="249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98" y="20200"/>
                </a:lnTo>
                <a:close/>
              </a:path>
              <a:path fill="lighten" w="249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998" h="21600">
                <a:moveTo>
                  <a:pt x="5493" y="3794"/>
                </a:moveTo>
                <a:lnTo>
                  <a:pt x="19506" y="10800"/>
                </a:lnTo>
                <a:lnTo>
                  <a:pt x="5493" y="17806"/>
                </a:lnTo>
                <a:close/>
              </a:path>
            </a:pathLst>
          </a:custGeom>
          <a:solidFill>
            <a:srgbClr val="e8f0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>
            <a:off x="5724360" y="3716280"/>
            <a:ext cx="1314720" cy="218124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В природе: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0" name=""/>
          <p:cNvSpPr/>
          <p:nvPr/>
        </p:nvSpPr>
        <p:spPr>
          <a:xfrm>
            <a:off x="971640" y="4941720"/>
            <a:ext cx="1942920" cy="1008360"/>
          </a:xfrm>
          <a:prstGeom prst="rect">
            <a:avLst/>
          </a:prstGeom>
          <a:solidFill>
            <a:srgbClr val="e8f0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онокристал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варенной со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564000" y="4941720"/>
            <a:ext cx="2374920" cy="936720"/>
          </a:xfrm>
          <a:prstGeom prst="rect">
            <a:avLst/>
          </a:prstGeom>
          <a:solidFill>
            <a:srgbClr val="e8f0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онокристал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люминиевых кисло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300720" y="4941720"/>
            <a:ext cx="2665440" cy="1008360"/>
          </a:xfrm>
          <a:prstGeom prst="rect">
            <a:avLst/>
          </a:prstGeom>
          <a:solidFill>
            <a:srgbClr val="e8f0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ристал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ири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Сернистого колчедан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8748720" y="6453360"/>
            <a:ext cx="395280" cy="404640"/>
          </a:xfrm>
          <a:custGeom>
            <a:avLst/>
            <a:gdLst>
              <a:gd name="textAreaLeft" fmla="*/ 25560 w 395280"/>
              <a:gd name="textAreaRight" fmla="*/ 369720 w 395280"/>
              <a:gd name="textAreaTop" fmla="*/ 25560 h 404640"/>
              <a:gd name="textAreaBottom" fmla="*/ 379080 h 404640"/>
            </a:gdLst>
            <a:ahLst/>
            <a:rect l="textAreaLeft" t="textAreaTop" r="textAreaRight" b="textAreaBottom"/>
            <a:pathLst>
              <a:path w="21600" h="22111">
                <a:moveTo>
                  <a:pt x="0" y="0"/>
                </a:moveTo>
                <a:lnTo>
                  <a:pt x="21600" y="0"/>
                </a:lnTo>
                <a:lnTo>
                  <a:pt x="21600" y="22111"/>
                </a:lnTo>
                <a:lnTo>
                  <a:pt x="0" y="22111"/>
                </a:lnTo>
                <a:close/>
              </a:path>
              <a:path fill="lightenLess" w="21600" h="2211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111">
                <a:moveTo>
                  <a:pt x="21600" y="0"/>
                </a:moveTo>
                <a:lnTo>
                  <a:pt x="21600" y="22111"/>
                </a:lnTo>
                <a:lnTo>
                  <a:pt x="20200" y="20711"/>
                </a:lnTo>
                <a:lnTo>
                  <a:pt x="20200" y="1400"/>
                </a:lnTo>
                <a:close/>
              </a:path>
              <a:path fill="darkenLess" w="21600" h="22111">
                <a:moveTo>
                  <a:pt x="21600" y="22111"/>
                </a:moveTo>
                <a:lnTo>
                  <a:pt x="0" y="22111"/>
                </a:lnTo>
                <a:lnTo>
                  <a:pt x="1400" y="20711"/>
                </a:lnTo>
                <a:lnTo>
                  <a:pt x="20200" y="20711"/>
                </a:lnTo>
                <a:close/>
              </a:path>
              <a:path fill="lighten" w="21600" h="22111">
                <a:moveTo>
                  <a:pt x="0" y="22111"/>
                </a:moveTo>
                <a:lnTo>
                  <a:pt x="0" y="0"/>
                </a:lnTo>
                <a:lnTo>
                  <a:pt x="1400" y="1400"/>
                </a:lnTo>
                <a:lnTo>
                  <a:pt x="1400" y="20711"/>
                </a:lnTo>
                <a:close/>
              </a:path>
              <a:path fill="darken" w="21600" h="22111">
                <a:moveTo>
                  <a:pt x="3794" y="7748"/>
                </a:moveTo>
                <a:lnTo>
                  <a:pt x="7301" y="7748"/>
                </a:lnTo>
                <a:lnTo>
                  <a:pt x="7301" y="13083"/>
                </a:lnTo>
                <a:cubicBezTo>
                  <a:pt x="7301" y="14006"/>
                  <a:pt x="8102" y="14737"/>
                  <a:pt x="9138" y="14737"/>
                </a:cubicBezTo>
                <a:lnTo>
                  <a:pt x="10800" y="14737"/>
                </a:lnTo>
                <a:cubicBezTo>
                  <a:pt x="11836" y="14737"/>
                  <a:pt x="12636" y="14006"/>
                  <a:pt x="12636" y="13083"/>
                </a:cubicBezTo>
                <a:lnTo>
                  <a:pt x="12636" y="7748"/>
                </a:lnTo>
                <a:lnTo>
                  <a:pt x="10800" y="7748"/>
                </a:lnTo>
                <a:lnTo>
                  <a:pt x="14308" y="4241"/>
                </a:lnTo>
                <a:lnTo>
                  <a:pt x="17981" y="7748"/>
                </a:lnTo>
                <a:lnTo>
                  <a:pt x="16144" y="7748"/>
                </a:lnTo>
                <a:lnTo>
                  <a:pt x="16144" y="13083"/>
                </a:lnTo>
                <a:cubicBezTo>
                  <a:pt x="16144" y="15851"/>
                  <a:pt x="13568" y="18410"/>
                  <a:pt x="10800" y="18410"/>
                </a:cubicBezTo>
                <a:lnTo>
                  <a:pt x="9138" y="18410"/>
                </a:lnTo>
                <a:cubicBezTo>
                  <a:pt x="6370" y="18410"/>
                  <a:pt x="3794" y="15851"/>
                  <a:pt x="3794" y="13083"/>
                </a:cubicBezTo>
                <a:close/>
              </a:path>
            </a:pathLst>
          </a:custGeom>
          <a:solidFill>
            <a:srgbClr val="e8f0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642960" y="1844640"/>
            <a:ext cx="2921040" cy="25941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3419640" y="1812960"/>
            <a:ext cx="2808000" cy="26240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4"/>
          <a:stretch/>
        </p:blipFill>
        <p:spPr>
          <a:xfrm>
            <a:off x="6024600" y="1844640"/>
            <a:ext cx="3119400" cy="258624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5"/>
          <a:stretch/>
        </p:blipFill>
        <p:spPr>
          <a:xfrm>
            <a:off x="7093080" y="260280"/>
            <a:ext cx="1819080" cy="139068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000"/>
                            </p:stCondLst>
                            <p:childTnLst>
                              <p:par>
                                <p:cTn id="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500"/>
                            </p:stCondLst>
                            <p:childTnLst>
                              <p:par>
                                <p:cTn id="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В искусстве: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5435640" y="333360"/>
            <a:ext cx="3271680" cy="419112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 txBox="1"/>
          <p:nvPr/>
        </p:nvSpPr>
        <p:spPr>
          <a:xfrm>
            <a:off x="4859280" y="4838400"/>
            <a:ext cx="39276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Знаменитый художник, увлекавшийся геометрией Альбрехт Дюрер (1471 - 1528) , в известной гравюре ''Меланхолия''. На переднем плане изобразил додекаэд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971640" y="2053080"/>
            <a:ext cx="4248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cc"/>
                </a:solidFill>
                <a:latin typeface="Arial"/>
              </a:rPr>
              <a:t>Фигуры, полученные объединением правильных многогранников, можно встретить во многих работах Эшера. Наиболее интересной среди них является гравюра "Звезды", на которой можно увидеть тела, полученные объединением тетраэдров, кубов и октаэдр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2268360" y="4724280"/>
            <a:ext cx="1576440" cy="1943280"/>
          </a:xfrm>
          <a:prstGeom prst="rect">
            <a:avLst/>
          </a:prstGeom>
          <a:ln w="0">
            <a:noFill/>
          </a:ln>
        </p:spPr>
      </p:pic>
      <p:sp>
        <p:nvSpPr>
          <p:cNvPr id="123" name="">
            <a:hlinkClick r:id="rId3" action="ppaction://hlinksldjump"/>
          </p:cNvPr>
          <p:cNvSpPr/>
          <p:nvPr/>
        </p:nvSpPr>
        <p:spPr>
          <a:xfrm>
            <a:off x="8712360" y="6426360"/>
            <a:ext cx="431640" cy="4316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e8f0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500"/>
                            </p:stCondLst>
                            <p:childTnLst>
                              <p:par>
                                <p:cTn id="6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2500"/>
                            </p:stCondLst>
                            <p:childTnLst>
                              <p:par>
                                <p:cTn id="7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3000"/>
                            </p:stCondLst>
                            <p:childTnLst>
                              <p:par>
                                <p:cTn id="7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В микробиологии: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"/>
          <p:cNvSpPr/>
          <p:nvPr/>
        </p:nvSpPr>
        <p:spPr>
          <a:xfrm>
            <a:off x="900000" y="1913400"/>
            <a:ext cx="4969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cc"/>
                </a:solidFill>
                <a:latin typeface="Arial"/>
              </a:rPr>
              <a:t>Вирусы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200000"/>
              </a:lnSpc>
              <a:buClr>
                <a:srgbClr val="00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cc"/>
                </a:solidFill>
                <a:latin typeface="Arial"/>
              </a:rPr>
              <a:t>иридесцентный вирус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Tupu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200000"/>
              </a:lnSpc>
              <a:buClr>
                <a:srgbClr val="00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cc"/>
                </a:solidFill>
                <a:latin typeface="Arial"/>
              </a:rPr>
              <a:t>полиомиели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>
            <a:hlinkClick r:id="rId1" action="ppaction://hlinksldjump"/>
          </p:cNvPr>
          <p:cNvSpPr/>
          <p:nvPr/>
        </p:nvSpPr>
        <p:spPr>
          <a:xfrm>
            <a:off x="8712360" y="6426360"/>
            <a:ext cx="431640" cy="4316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e8f0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4427640" y="3483000"/>
            <a:ext cx="4502160" cy="265104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1000"/>
                            </p:stCondLst>
                            <p:childTnLst>
                              <p:par>
                                <p:cTn id="9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3000"/>
                            </p:stCondLst>
                            <p:childTnLst>
                              <p:par>
                                <p:cTn id="10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В геологии: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"/>
          <p:cNvSpPr/>
          <p:nvPr/>
        </p:nvSpPr>
        <p:spPr>
          <a:xfrm>
            <a:off x="1042920" y="2105280"/>
            <a:ext cx="7345440" cy="43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33cc"/>
                </a:solidFill>
                <a:uFillTx/>
                <a:latin typeface="Arial"/>
              </a:rPr>
              <a:t>Теории моделей Зем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cc"/>
                </a:solidFill>
                <a:latin typeface="Arial"/>
              </a:rPr>
              <a:t>Плато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cc"/>
                </a:solidFill>
                <a:latin typeface="Arial"/>
              </a:rPr>
              <a:t>Л.Грина, А. Лаппарента (тетраэдр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cc"/>
                </a:solidFill>
                <a:latin typeface="Arial"/>
              </a:rPr>
              <a:t>Б.Л.Личкова (октаэдр, додекаэдр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cc"/>
                </a:solidFill>
                <a:latin typeface="Arial"/>
              </a:rPr>
              <a:t>И.И. Шафрановского (два тетраэдр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cc"/>
                </a:solidFill>
                <a:latin typeface="Arial"/>
              </a:rPr>
              <a:t>Гончарова н.В. – Макарова В.А. – Морозова В.А. (додекаэдро – икосаэдрова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>
            <a:hlinkClick r:id="rId1" action="ppaction://hlinksldjump"/>
          </p:cNvPr>
          <p:cNvSpPr/>
          <p:nvPr/>
        </p:nvSpPr>
        <p:spPr>
          <a:xfrm>
            <a:off x="8712360" y="6426360"/>
            <a:ext cx="431640" cy="4316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e8f0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6588000" y="260280"/>
            <a:ext cx="2049480" cy="216072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2000"/>
                            </p:stCondLst>
                            <p:childTnLst>
                              <p:par>
                                <p:cTn id="12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3000"/>
                            </p:stCondLst>
                            <p:childTnLst>
                              <p:par>
                                <p:cTn id="13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4000"/>
                            </p:stCondLst>
                            <p:childTnLst>
                              <p:par>
                                <p:cTn id="13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5000"/>
                            </p:stCondLst>
                            <p:childTnLst>
                              <p:par>
                                <p:cTn id="14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6000"/>
                            </p:stCondLst>
                            <p:childTnLst>
                              <p:par>
                                <p:cTn id="15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В игрушках: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"/>
          <p:cNvSpPr/>
          <p:nvPr/>
        </p:nvSpPr>
        <p:spPr>
          <a:xfrm>
            <a:off x="1042920" y="2345760"/>
            <a:ext cx="424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50000"/>
              </a:lnSpc>
              <a:buClr>
                <a:srgbClr val="00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cc"/>
                </a:solidFill>
                <a:latin typeface="Arial"/>
              </a:rPr>
              <a:t>игрушка этрусских дет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cc"/>
                </a:solidFill>
                <a:latin typeface="Arial"/>
              </a:rPr>
              <a:t>головоломка Гамильто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cc"/>
                </a:solidFill>
                <a:latin typeface="Arial"/>
              </a:rPr>
              <a:t>игральные к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cc"/>
                </a:solidFill>
                <a:latin typeface="Arial"/>
              </a:rPr>
              <a:t>конструкто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cc"/>
                </a:solidFill>
                <a:latin typeface="Arial"/>
              </a:rPr>
              <a:t>головоломки Руб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cc"/>
                </a:solidFill>
                <a:latin typeface="Arial"/>
              </a:rPr>
              <a:t>Новогодние украш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712360" y="6426360"/>
            <a:ext cx="431640" cy="4316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e8f0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896000" y="1125360"/>
            <a:ext cx="4248000" cy="279900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3000"/>
                            </p:stCondLst>
                            <p:childTnLst>
                              <p:par>
                                <p:cTn id="17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4000"/>
                            </p:stCondLst>
                            <p:childTnLst>
                              <p:par>
                                <p:cTn id="18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5000"/>
                            </p:stCondLst>
                            <p:childTnLst>
                              <p:par>
                                <p:cTn id="19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6000"/>
                            </p:stCondLst>
                            <p:childTnLst>
                              <p:par>
                                <p:cTn id="19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Вывод: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Мир без правильных многогранников существовать, вероятно, сможет, но  это будет уже совершенно иной мир, выстроенный и существующий по другим природным закон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>
            <a:hlinkClick r:id="" action="ppaction://hlinkshowjump?jump=nextslide"/>
          </p:cNvPr>
          <p:cNvSpPr/>
          <p:nvPr/>
        </p:nvSpPr>
        <p:spPr>
          <a:xfrm>
            <a:off x="8496360" y="6165720"/>
            <a:ext cx="647640" cy="69228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692280"/>
              <a:gd name="textAreaBottom" fmla="*/ 650520 h 692280"/>
            </a:gdLst>
            <a:ahLst/>
            <a:rect l="textAreaLeft" t="textAreaTop" r="textAreaRight" b="textAreaBottom"/>
            <a:pathLst>
              <a:path w="21600" h="23088">
                <a:moveTo>
                  <a:pt x="0" y="0"/>
                </a:moveTo>
                <a:lnTo>
                  <a:pt x="21600" y="0"/>
                </a:lnTo>
                <a:lnTo>
                  <a:pt x="21600" y="23088"/>
                </a:lnTo>
                <a:lnTo>
                  <a:pt x="0" y="23088"/>
                </a:lnTo>
                <a:close/>
              </a:path>
              <a:path fill="lightenLess" w="21600" h="2308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088">
                <a:moveTo>
                  <a:pt x="21600" y="0"/>
                </a:moveTo>
                <a:lnTo>
                  <a:pt x="21600" y="23088"/>
                </a:lnTo>
                <a:lnTo>
                  <a:pt x="20200" y="21688"/>
                </a:lnTo>
                <a:lnTo>
                  <a:pt x="20200" y="1400"/>
                </a:lnTo>
                <a:close/>
              </a:path>
              <a:path fill="darkenLess" w="21600" h="23088">
                <a:moveTo>
                  <a:pt x="21600" y="23088"/>
                </a:moveTo>
                <a:lnTo>
                  <a:pt x="0" y="23088"/>
                </a:lnTo>
                <a:lnTo>
                  <a:pt x="1400" y="21688"/>
                </a:lnTo>
                <a:lnTo>
                  <a:pt x="20200" y="21688"/>
                </a:lnTo>
                <a:close/>
              </a:path>
              <a:path fill="lighten" w="21600" h="23088">
                <a:moveTo>
                  <a:pt x="0" y="23088"/>
                </a:moveTo>
                <a:lnTo>
                  <a:pt x="0" y="0"/>
                </a:lnTo>
                <a:lnTo>
                  <a:pt x="1400" y="1400"/>
                </a:lnTo>
                <a:lnTo>
                  <a:pt x="1400" y="21688"/>
                </a:lnTo>
                <a:close/>
              </a:path>
              <a:path fill="darken" w="21600" h="23088">
                <a:moveTo>
                  <a:pt x="3794" y="4538"/>
                </a:moveTo>
                <a:lnTo>
                  <a:pt x="17806" y="11544"/>
                </a:lnTo>
                <a:lnTo>
                  <a:pt x="3794" y="18550"/>
                </a:lnTo>
                <a:close/>
              </a:path>
            </a:pathLst>
          </a:custGeom>
          <a:solidFill>
            <a:srgbClr val="e8f0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0T07:06:57Z</dcterms:created>
  <dc:creator>Ученик</dc:creator>
  <dc:description/>
  <dc:language>en-US</dc:language>
  <cp:lastModifiedBy>учитель</cp:lastModifiedBy>
  <dcterms:modified xsi:type="dcterms:W3CDTF">2007-03-29T07:24:00Z</dcterms:modified>
  <cp:revision>60</cp:revision>
  <dc:subject/>
  <dc:title>Правильная пятерка</dc:title>
</cp:coreProperties>
</file>