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E56-9B4E-43F3-9BB3-1E853EC52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ого «открытия» Кеплер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оследствии пришлось отказаться. «Открытие» это, изложенное Кеплером в первом его крупном сочинении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terium Cosmographic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— «Космографическая тайна» (1596), состояло в следующем; вокруг сферы, на поверхности которой движется Меркурий (его орбита принимается за окружность), описывается октаэдр; вокруг октаэдра — сфера, на которой находится Венера; вокруг последней сферы описывается икосаэдр  и вокруг него сфера, 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отор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ывается Земля; далее идет додекаэдр со сферой, на которой движется Марс; затем описывается тетраэдр на сфере Юпитера, затем следует куб со сферой, на которой находится последняя известная Кеплеру планета — Сатур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, изучив долголетние тщательнее наблюдения знаменитого астронома Тихо Браге над движением планеты Марс, Кеплер обнаружил, что Марс движется не по кругу, а по эллипсу, и, критически пересмотрев свои взгляды на движение планет, пришел к «законам Кеплера». В «Космографической тайне», несмотря на ее пифагорейский и средневековый мистицизм, Кеплер, поместив Солнце в центре всех сфер, на которых движутся планеты, проявил себя как приверженец гелиоцентр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вил здесь также учение о двух видах выпуклых звездчатых многогранников и обстоятельно изложил теорию архимедовых те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о правильных многогранниках, содержащееся в последней, ХШ книге Евклида, является венцом его «Начал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Евклид устанавливает существование этих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Евклид доказывает в 18-м, последнем предложении XIII книги, что, кроме упомянутых пяти тел, нет других правильных многогранников. Некоторыми сведениями о многогранниках обладали еще древние египтяне. Древнегреческий математик Прокл (V в.) приписывает построение пяти правильных многогранников Пифагору, однако, как было установлено позже, Пифагор мог знать, самое большее, гексаэдр (куб), тетраэдр и додекаэдр, в то время как октаэдр и икосаэдр были, вероятно, открыты лишь Теэтетом Афинским в IV в. до н. э. Последнего считают также автором Х и X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 «Начал» Евкл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ейцы, которые утверждали, что «все есть число», уделяли в своих космологических теориях особенно важное место правильным многогранникам, неоценимое превосходство которых над всеми другими телами они усмотрели в том, что и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ять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м каждый из них имеет свое специфически индивидуальное число граней, вершин и реб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ми многогранниками занимался, по свидетельству  Паппа Александрийского (которому, впрочем, принадлежит отличное от евклидова построение пяти правильных многогранников), и Архимед, однако и эти работы до нас не дош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оху Ренессанса возродился интерес и к правильным многогранникам, в частности, в кругах архитекторов и художников. Лука Пачоли под влиянием своего друга Леонардо да Винчи написал сочинение «О божественной пропорции» (1509), в котором рассматривает «золотое сечение» и «архимедовы тел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теоремы о единственности пяти правильных многогранников впервые ввел в элементарную геометрию в 1794 г. А. Лежандр. Топологический вывод этого предложения, основанный на теореме Эйлера, впервые изложил в «Анналах Жергонна» (1812—1813) французский математик Люил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0"/>
                </a:solidFill>
                <a:latin typeface="Times New Roman"/>
                <a:ea typeface="Times New Roman"/>
              </a:rPr>
              <a:t>Тетраэдр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етыре грани - равносторонние треугольники. Имеет четыре вершины и шесть реб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0"/>
                </a:solidFill>
                <a:latin typeface="Times New Roman"/>
                <a:ea typeface="Times New Roman"/>
              </a:rPr>
              <a:t>Тетраэдр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етыре грани - равносторонние треугольники. Имеет четыре вершины и шесть ребе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аэдр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кто» — восемь): 8 граней, 6 вершин, 12 реб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эд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«эйкоси» — двадцать): 20 граней, 12 вершин, 30 . ребер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каэдр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додека» — двенадцать): 12 граней, 20 вершин, ; 30 реб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ревнегреческий философ-идеалист Платон,  ничего не добавивший к математической теории многогранников, придавал атомам этих «стихий» форму тетраэдра, куба, октаэдра :и икосаэдра. Форму додекаэдра Платон придавал всему миру в , целом. Этим объясняются такие названия, которые получили правильные многогранники:,«космические фигуры», «идеальные фигуры», «платоновы тела». Сочинение Аполлония о додекаэдре и икосаэдре до нас не дошло. Ему принадлежит теорема о том, что отношение объемов октаэдра и икосаэдра равно отношению их поверхност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етраэдр символизировал огонь, куб — землю. октаэдр — воздух, икосаэдр — воду, а д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екаэдр — Вселенную. Первые четыре многогранника были хорошо известны и до П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она, а додекаэдр был открыт философами школы Платона. Это открытие они держали в строжайшей тайне. Существует легенда об ученике Платона Гиппазе, погибшем в море во время шторма, учиненного олимпийскими богами, за разглашение этой тай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у принадлежит открытие 13 так называемы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равильных многогранников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архимедовых тел»), каждый из которых ограничен неодноименными правильными многоугольниками и в котором равны многогранные углы и одноименные многоугольники, причем в каждой вершине сходится одно и то же число одинаковых граней в одинаковом порядке. Число граней этих тел содержится между 8 и 92 Каждое из этих тел может быть вписано в сферу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химе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м их описал. Это тела, составленные из многоугольников двух видов, причем в каждой вершине сходится одно и то же число многоугольников каждого вида. Примером такого многогранника является футбольный мяч, часто по­являющийся на экранах телевизоров. Он составлен из пяти-шестиуголь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ADA-071F-44A4-A615-6900855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9B2-B157-43C5-BE39-62B742D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50E-272D-428D-97D8-DD0AF17F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C63-D4C6-4DE0-BE98-5F9B8D63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A56-684E-4252-9C13-FEA1E9D2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F65-5F5B-4FF0-AFD4-A7771F67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5DD-83FB-428F-BCC9-41E41D10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D14-3369-41AF-9F99-59B4C38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F32-3EE3-4F92-8E59-9A31EF7B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BD7-4AB9-4BD2-BE44-6F79FBD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E4C-8F13-4EBC-8125-8054F89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370-9BCB-4412-9B9A-E46B731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1F4A-6C34-43B5-AE51-8F546A44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15200" y="228600"/>
          <a:ext cx="14097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8600"/>
                    <a:ext cx="14097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120492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600200"/>
            <a:ext cx="701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авильные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80880"/>
            <a:ext cx="34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ереометри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3809880"/>
            <a:ext cx="701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многогранн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523880" y="457200"/>
            <a:ext cx="5562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ия Кеплер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5238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е своего научного пути И. Кеплер, для которого правильные многогранники были любимым предметом изучения, сделал мнимое открытие, которое на первых порах принесло ему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ного сл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38680" y="1752480"/>
          <a:ext cx="302112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752480"/>
                    <a:ext cx="302112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3520" y="4317840"/>
            <a:ext cx="1204920" cy="221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4394160"/>
            <a:ext cx="2819520" cy="1447920"/>
          </a:xfrm>
          <a:prstGeom prst="wedgeEllipseCallout">
            <a:avLst>
              <a:gd name="adj1" fmla="val -75620"/>
              <a:gd name="adj2" fmla="val 125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462276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какое отно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имеет к многогранника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4724280" y="4038120"/>
            <a:ext cx="2743200" cy="1295640"/>
          </a:xfrm>
          <a:prstGeom prst="wedgeEllipseCallout">
            <a:avLst>
              <a:gd name="adj1" fmla="val -64296"/>
              <a:gd name="adj2" fmla="val -24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н связывал с ними орбиты вращения планет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314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500"/>
                            </p:stCondLst>
                            <p:childTnLst>
                              <p:par>
                                <p:cTn id="3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4800" y="1143000"/>
            <a:ext cx="6455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Что можно прочитать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Глейзер Г.И. История математики в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Серия «Я познаю мир» (Математи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Энциклопедический словарь юного ма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648320"/>
            <a:ext cx="456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полне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ем математики средней школы №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ишневской Н.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 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257800" y="4038480"/>
          <a:ext cx="274320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038480"/>
                    <a:ext cx="27432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1371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90720" y="533520"/>
            <a:ext cx="701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ый многогранни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8288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ногогранник называется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авильным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3333cc"/>
                </a:solidFill>
                <a:latin typeface="TimesNewRoman"/>
                <a:ea typeface="Times New Roman"/>
              </a:rPr>
              <a:t>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он выпукл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се его грани - равные правильные многоугольни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 каждой вершине сходится одинаковое число гран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се его двухгранные углы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уществует всего 5 видов правильных многогранник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4343400"/>
            <a:ext cx="24192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емучк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24480" y="4800600"/>
            <a:ext cx="2419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твечалк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934320" y="2590920"/>
            <a:ext cx="1314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4114800"/>
            <a:ext cx="2057400" cy="1143000"/>
          </a:xfrm>
          <a:prstGeom prst="wedgeEllipseCallout">
            <a:avLst>
              <a:gd name="adj1" fmla="val -75462"/>
              <a:gd name="adj2" fmla="val 1777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343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означаю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ова» «тетр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«эдр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19320"/>
            <a:ext cx="2743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Это пирамида, все грани которой - правильные треугольн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388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траэд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962160" y="4266720"/>
            <a:ext cx="2895480" cy="1219320"/>
          </a:xfrm>
          <a:prstGeom prst="wedgeEllipseCallout">
            <a:avLst>
              <a:gd name="adj1" fmla="val -63546"/>
              <a:gd name="adj2" fmla="val -23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еских слов «тетра» — четыре и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ra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грань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3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8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3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2388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ксаэд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4038480"/>
            <a:ext cx="2286000" cy="1447920"/>
          </a:xfrm>
          <a:prstGeom prst="wedgeEllipseCallout">
            <a:avLst>
              <a:gd name="adj1" fmla="val -81597"/>
              <a:gd name="adj2" fmla="val 125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3434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 вам привычнее называть данный многогранник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12193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Это призма, все грани которой - правильные четырехуголь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5105520" y="4267080"/>
            <a:ext cx="2133360" cy="914400"/>
          </a:xfrm>
          <a:prstGeom prst="wedgeEllipseCallout">
            <a:avLst>
              <a:gd name="adj1" fmla="val -65851"/>
              <a:gd name="adj2" fmla="val -475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нечно же куб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81480" y="1295280"/>
            <a:ext cx="22892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52388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ктаэд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52480" y="4038480"/>
            <a:ext cx="2286000" cy="1447920"/>
          </a:xfrm>
          <a:prstGeom prst="wedgeEllipseCallout">
            <a:avLst>
              <a:gd name="adj1" fmla="val -81597"/>
              <a:gd name="adj2" fmla="val 125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434340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 как сколько граней у данного многогранник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21932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495320" y="4114440"/>
            <a:ext cx="2667240" cy="1523880"/>
          </a:xfrm>
          <a:prstGeom prst="wedgeEllipseCallout">
            <a:avLst>
              <a:gd name="adj1" fmla="val -74407"/>
              <a:gd name="adj2" fmla="val -276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, ведь «окта» переводится с греческого именно так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37160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Это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многогранни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ставленный из восьми правильных треуг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131436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2514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3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8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3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4191120"/>
            <a:ext cx="2057400" cy="1143000"/>
          </a:xfrm>
          <a:prstGeom prst="wedgeEllipseCallout">
            <a:avLst>
              <a:gd name="adj1" fmla="val -85106"/>
              <a:gd name="adj2" fmla="val 15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343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колько же вершин он имеет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990720"/>
            <a:ext cx="27432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Это многогранник, состоящий из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адцати правильных треуголь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388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косаэд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4723920" y="4495320"/>
            <a:ext cx="2057400" cy="762120"/>
          </a:xfrm>
          <a:prstGeom prst="wedgeEllipseCallout">
            <a:avLst>
              <a:gd name="adj1" fmla="val -82870"/>
              <a:gd name="adj2" fmla="val -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вер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2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7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163520" cy="213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4038480"/>
            <a:ext cx="2057400" cy="1447920"/>
          </a:xfrm>
          <a:prstGeom prst="wedgeEllipseCallout">
            <a:avLst>
              <a:gd name="adj1" fmla="val -89504"/>
              <a:gd name="adj2" fmla="val 9976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3434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 кажется знаю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куда назв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 вы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219320"/>
            <a:ext cx="327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Это многогранник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ставленный из двенадцати правильных пятиуголь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декаэд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267080" y="4191120"/>
            <a:ext cx="2895840" cy="1218960"/>
          </a:xfrm>
          <a:prstGeom prst="wedgeEllipseCallout">
            <a:avLst>
              <a:gd name="adj1" fmla="val -63546"/>
              <a:gd name="adj2" fmla="val -23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 правы, «додека» означает в переводе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971800" cy="237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7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2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7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3716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равильны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ногогранники носят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звание «платоновых тел», по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имени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тона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в учении которого они играли важную рол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772400" y="380880"/>
          <a:ext cx="83808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838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120492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143000" y="304920"/>
            <a:ext cx="6248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тоновы тел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4572000"/>
            <a:ext cx="1981080" cy="1143000"/>
          </a:xfrm>
          <a:prstGeom prst="wedgeEllipseCallout">
            <a:avLst>
              <a:gd name="adj1" fmla="val -82611"/>
              <a:gd name="adj2" fmla="val 15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то такой Платон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4038480" y="4114800"/>
            <a:ext cx="2895840" cy="1447920"/>
          </a:xfrm>
          <a:prstGeom prst="wedgeEllipseCallout">
            <a:avLst>
              <a:gd name="adj1" fmla="val -63541"/>
              <a:gd name="adj2" fmla="val -22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негре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28—348 до н.э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867280" y="1523880"/>
            <a:ext cx="1751040" cy="240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314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137160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равильн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и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ела, составленные из многоугольнико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 видов, причем в каждой вершине сходится одно и то же число многоугольников каждого ви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4317840"/>
            <a:ext cx="120492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943600" y="1371600"/>
          <a:ext cx="19810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371600"/>
                    <a:ext cx="1981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981080" y="4394160"/>
            <a:ext cx="2819520" cy="1447920"/>
          </a:xfrm>
          <a:prstGeom prst="wedgeEllipseCallout">
            <a:avLst>
              <a:gd name="adj1" fmla="val -74379"/>
              <a:gd name="adj2" fmla="val 6361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462276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 каких многоугольников составлен мяч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724280" y="4038120"/>
            <a:ext cx="2743200" cy="1295640"/>
          </a:xfrm>
          <a:prstGeom prst="wedgeEllipseCallout">
            <a:avLst>
              <a:gd name="adj1" fmla="val -64296"/>
              <a:gd name="adj2" fmla="val -24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ильно, из пяти- и шестиугольников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057400" y="304920"/>
            <a:ext cx="55627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рхимедовы тел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1417680" cy="157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315200" y="4267080"/>
            <a:ext cx="1314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09:48:12Z</dcterms:created>
  <dc:creator>Ученик</dc:creator>
  <dc:description/>
  <dc:language>en-US</dc:language>
  <cp:lastModifiedBy>учитель</cp:lastModifiedBy>
  <dcterms:modified xsi:type="dcterms:W3CDTF">2007-03-29T07:26:00Z</dcterms:modified>
  <cp:revision>51</cp:revision>
  <dc:subject/>
  <dc:title>Презентация PowerPoint</dc:title>
</cp:coreProperties>
</file>