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BA0-F900-4C26-BEE3-6370B79B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8B2-E113-4321-9849-3D9B29AF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B71-36CC-4168-8BDD-4E308708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BDF-C199-4CBA-8C04-DE4699F0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92FE-3910-4172-AB5F-3AA4D460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2413-2567-4BCC-8093-0FBF13E6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5ED-2D30-4A19-BFF7-43DE2619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6B96-069A-402F-BAE7-BFB3266E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940D-BCA8-4703-8820-0D35ABD7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AA6A-02B7-4680-892F-31DCB73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188-A439-4F52-9E06-EDD731E8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433-9C17-4A31-B8CA-F0C6AEC0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535-777A-4D25-A96A-92D3599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D8B0-20C1-4366-9979-F3FAC1D8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28B2-10AB-45CF-BF93-0D941B40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2440-2BC6-4708-AE9A-0B5C059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A8DE-3607-406F-A9BB-3BB1A209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508-FA1D-4EA9-B5D2-CD973E0D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7E6-D707-40F0-9173-C2A92FDA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7D9-3CA9-4D37-B1C7-998340E3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52A-9A16-472F-BA07-9C74C297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9C7-0E9D-4B76-8C97-57D0A584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8E6-E774-4116-A479-13E07833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47A-AC39-40EF-9CEA-0A802BFA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AA4-63E2-4D93-88A2-95768F3B49A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357-736E-4943-94C0-A6299004A9E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2120" y="289548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ординатная плоскость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43200" y="1828800"/>
            <a:ext cx="38005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атериалы по тем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43200" y="4648320"/>
            <a:ext cx="38005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6 класс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600200" y="1500120"/>
            <a:ext cx="6095880" cy="4595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бота выполнен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чителем математик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редней школы №3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. Галич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ишневской Н.В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004 год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1066680" y="685800"/>
            <a:ext cx="68580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bdd7e5"/>
                </a:solidFill>
                <a:uFillTx/>
                <a:latin typeface="Tahoma"/>
                <a:hlinkClick r:id="rId3" action="ppaction://hlinksldjump"/>
              </a:rPr>
              <a:t>Из истории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990720" y="3809880"/>
            <a:ext cx="7010280" cy="8384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bdd7e5"/>
                </a:solidFill>
                <a:uFillTx/>
                <a:latin typeface="Tahoma"/>
                <a:hlinkClick r:id="rId5" action="ppaction://hlinksldjump"/>
              </a:rPr>
              <a:t>Координатная плоскость</a:t>
            </a:r>
            <a:r>
              <a:rPr b="0" lang="ru-RU" sz="4800" spc="-1" strike="noStrike">
                <a:solidFill>
                  <a:srgbClr val="004c2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1066680" y="2209680"/>
            <a:ext cx="68580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bdd7e5"/>
                </a:solidFill>
                <a:uFillTx/>
                <a:latin typeface="Tahoma"/>
                <a:hlinkClick r:id="rId7" action="ppaction://hlinksldjump"/>
              </a:rPr>
              <a:t>Морской бой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>
            <a:hlinkClick r:id="rId8" action="ppaction://hlinksldjump"/>
          </p:cNvPr>
          <p:cNvSpPr/>
          <p:nvPr/>
        </p:nvSpPr>
        <p:spPr>
          <a:xfrm>
            <a:off x="1143000" y="5334120"/>
            <a:ext cx="68580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bdd7e5"/>
                </a:solidFill>
                <a:uFillTx/>
                <a:latin typeface="Tahoma"/>
                <a:hlinkClick r:id="rId9" action="ppaction://hlinksldjump"/>
              </a:rPr>
              <a:t>Упражнения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523880"/>
            <a:ext cx="9144000" cy="5334120"/>
            <a:chOff x="0" y="1523880"/>
            <a:chExt cx="9144000" cy="5334120"/>
          </a:xfrm>
        </p:grpSpPr>
        <p:sp>
          <p:nvSpPr>
            <p:cNvPr id="90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666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809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191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952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334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477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6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1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9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2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7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8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1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63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1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1523880"/>
            <a:ext cx="0" cy="457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95880"/>
            <a:ext cx="80773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38088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ской бой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915840" y="6093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   2   3   4   5   6   7   8   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8880" y="611820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0 11 12  13 14 15 16 17 18 19 2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2680" y="1752480"/>
            <a:ext cx="48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897360"/>
            <a:ext cx="609480" cy="522360"/>
          </a:xfrm>
          <a:prstGeom prst="irregularSeal1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1600200"/>
            <a:ext cx="609480" cy="60948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5105520"/>
            <a:ext cx="457200" cy="457200"/>
          </a:xfrm>
          <a:prstGeom prst="irregularSeal1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609480" cy="6098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981080"/>
            <a:ext cx="609480" cy="60984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5410080"/>
            <a:ext cx="609480" cy="609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2743200"/>
            <a:ext cx="609480" cy="60948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91920" y="57150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680" y="10666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3424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4c2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28800" y="2286000"/>
            <a:ext cx="6705720" cy="2517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Молодцы!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1523880"/>
            <a:ext cx="9144000" cy="5334120"/>
            <a:chOff x="0" y="1523880"/>
            <a:chExt cx="9144000" cy="5334120"/>
          </a:xfrm>
        </p:grpSpPr>
        <p:sp>
          <p:nvSpPr>
            <p:cNvPr id="145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2666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3809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4191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4952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334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477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8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6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15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0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8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01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63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1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533520" y="38088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ординатная плоскость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447920"/>
            <a:ext cx="0" cy="54100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0122800">
            <a:off x="5410080" y="4648320"/>
            <a:ext cx="3200400" cy="457200"/>
          </a:xfrm>
          <a:prstGeom prst="rightArrow">
            <a:avLst>
              <a:gd name="adj1" fmla="val 50000"/>
              <a:gd name="adj2" fmla="val 175000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сь абсцисс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0122800">
            <a:off x="1371600" y="2057400"/>
            <a:ext cx="3200400" cy="457200"/>
          </a:xfrm>
          <a:prstGeom prst="rightArrow">
            <a:avLst>
              <a:gd name="adj1" fmla="val 50000"/>
              <a:gd name="adj2" fmla="val 175000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сь ордина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20122800">
            <a:off x="838080" y="4800240"/>
            <a:ext cx="3514680" cy="639720"/>
          </a:xfrm>
          <a:prstGeom prst="rightArrow">
            <a:avLst>
              <a:gd name="adj1" fmla="val 50000"/>
              <a:gd name="adj2" fmla="val 137352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Начало координа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124080"/>
            <a:ext cx="0" cy="10670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048120"/>
            <a:ext cx="144792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4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54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4000" y="24638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А(4; 3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6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4c2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114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631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652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33520" y="304920"/>
            <a:ext cx="8001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истории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283400"/>
            <a:ext cx="8155080" cy="5580360"/>
          </a:xfrm>
          <a:prstGeom prst="rect">
            <a:avLst/>
          </a:prstGeom>
          <a:solidFill>
            <a:srgbClr val="5789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дея задавать положение точки на плоскости с помощью чисел зародилась в древн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чем за 100 лет до н. э. греческий  ученый Гиппарх предложил ввести хорошо известные теперь географические координаты: широту и долготу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XIV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еке французский математик  Оресм ввел, по аналогии с географическими координатами, координаты на плоск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ная заслуга в использовании метода координат принадлежит французскому математику</a:t>
            </a:r>
            <a:r>
              <a:rPr b="0" lang="ru-RU" sz="24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 Декарту,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оэтому прямоугольную систему координат часто называют декартовой.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лова «абсцисса», «ордината», «координаты» первым начал использовать в конце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ека немецкий математик Лейбниц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63424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4c2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71800" y="1752480"/>
            <a:ext cx="5715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«Признаюсь, я родился с таким умом, что главное удовольствие при научных занятиях для меня заключалось не в том, что я выслушивал чужие мнения, а в том, что я всегда стремился создать свое собственные.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457200"/>
            <a:ext cx="8001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не Декарт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863424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4c2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2655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0492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600200"/>
            <a:ext cx="3581280" cy="3733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пражнение 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метьте на координатной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лоскости  точк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(4; 2), В(4;-5)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(- 4;-5), D(-4;2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E(0;6). Соедините и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следовательно отрезкам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акая фигура получилась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5638680"/>
            <a:ext cx="29718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Times New Roman"/>
              </a:rPr>
              <a:t>Проверка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1600200"/>
            <a:ext cx="3733560" cy="3809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пражнение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метьте на координатной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лоскости точки, задан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воими координатам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очки отмечайте в порядк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х следования, соединя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аждую последующу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 предыдуще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то получится в результате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5638680"/>
            <a:ext cx="29718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Times New Roman"/>
              </a:rPr>
              <a:t>Проверка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8710560" y="642456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4c2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1523880"/>
            <a:ext cx="9144000" cy="5334120"/>
            <a:chOff x="0" y="1523880"/>
            <a:chExt cx="9144000" cy="5334120"/>
          </a:xfrm>
        </p:grpSpPr>
        <p:sp>
          <p:nvSpPr>
            <p:cNvPr id="214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666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3809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191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4952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5334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647712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3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8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6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9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1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2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5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5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7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0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8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0100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76312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1880" y="1523880"/>
              <a:ext cx="0" cy="5334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533520" y="30492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е 1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447920"/>
            <a:ext cx="0" cy="54100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988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11120" y="1066680"/>
            <a:ext cx="4888440" cy="5473440"/>
            <a:chOff x="2211120" y="1066680"/>
            <a:chExt cx="4888440" cy="5473440"/>
          </a:xfrm>
        </p:grpSpPr>
        <p:sp>
          <p:nvSpPr>
            <p:cNvPr id="259" name=""/>
            <p:cNvSpPr/>
            <p:nvPr/>
          </p:nvSpPr>
          <p:spPr>
            <a:xfrm flipV="1">
              <a:off x="3048120" y="1904760"/>
              <a:ext cx="1523880" cy="1523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211120" y="1066680"/>
              <a:ext cx="4888440" cy="5473440"/>
              <a:chOff x="2211120" y="1066680"/>
              <a:chExt cx="4888440" cy="547344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6095880" y="3429000"/>
                <a:ext cx="0" cy="266688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48120" y="6095880"/>
                <a:ext cx="30477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048120" y="3429000"/>
                <a:ext cx="0" cy="266688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1905120"/>
                <a:ext cx="1523880" cy="152388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78560" y="289548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ff0066"/>
                    </a:solidFill>
                    <a:latin typeface="Times New Roman"/>
                  </a:rPr>
                  <a:t>А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11120" y="556272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ff0066"/>
                    </a:solidFill>
                    <a:latin typeface="Times New Roman"/>
                  </a:rPr>
                  <a:t>С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25920" y="571500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35720" y="1066680"/>
                <a:ext cx="6454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6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11120" y="327672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4c2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33520" y="30492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е 2</a:t>
            </a:r>
            <a:endParaRPr b="0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1447920"/>
            <a:ext cx="0" cy="54100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4120" y="46483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12952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54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686800" y="43434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1523520"/>
            <a:ext cx="9144000" cy="5334480"/>
            <a:chOff x="0" y="1523520"/>
            <a:chExt cx="9144000" cy="5334480"/>
          </a:xfrm>
        </p:grpSpPr>
        <p:sp>
          <p:nvSpPr>
            <p:cNvPr id="279" name=""/>
            <p:cNvSpPr/>
            <p:nvPr/>
          </p:nvSpPr>
          <p:spPr>
            <a:xfrm flipH="1">
              <a:off x="7619760" y="3429000"/>
              <a:ext cx="1523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1523520"/>
              <a:ext cx="9144000" cy="5334480"/>
              <a:chOff x="0" y="1523520"/>
              <a:chExt cx="9144000" cy="533448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6858000" y="3048120"/>
                <a:ext cx="2286000" cy="3504960"/>
                <a:chOff x="6858000" y="3048120"/>
                <a:chExt cx="2286000" cy="3504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001000" y="3048120"/>
                  <a:ext cx="1143000" cy="304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7619760" y="3809880"/>
                  <a:ext cx="15238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43800" y="3809880"/>
                  <a:ext cx="1600200" cy="381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6858000" y="419112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858000" y="4191120"/>
                  <a:ext cx="0" cy="7617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858000" y="49528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2920" y="4952880"/>
                  <a:ext cx="1218960" cy="7621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381880" y="57150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381880" y="60958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763120" y="60958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>
                  <a:off x="7238880" y="5333760"/>
                  <a:ext cx="1524240" cy="11430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38880" y="5334120"/>
                  <a:ext cx="762120" cy="7617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001000" y="60958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001000" y="64771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0" y="1523520"/>
                <a:ext cx="9144000" cy="5334480"/>
                <a:chOff x="0" y="1523520"/>
                <a:chExt cx="9144000" cy="533448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0" y="1523520"/>
                  <a:ext cx="9144000" cy="5334480"/>
                  <a:chOff x="0" y="1523520"/>
                  <a:chExt cx="9144000" cy="5334480"/>
                </a:xfrm>
              </p:grpSpPr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0" y="1523880"/>
                    <a:ext cx="9144000" cy="5334120"/>
                    <a:chOff x="0" y="1523880"/>
                    <a:chExt cx="9144000" cy="53341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0" y="152388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0" y="190512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0" y="22860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0" y="266688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0" y="304812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0" y="34290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0" y="380988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0" y="419112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0" y="45720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0" y="495288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0" y="533412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0" y="57150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0" y="609588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0" y="647712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380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1523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114300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62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905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048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2666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228600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342900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57200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4191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809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952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6095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571500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5334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477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620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238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685800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100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76312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381880" y="1523880"/>
                      <a:ext cx="0" cy="5334120"/>
                    </a:xfrm>
                    <a:prstGeom prst="line">
                      <a:avLst/>
                    </a:prstGeom>
                    <a:ln w="936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0" y="1523520"/>
                    <a:ext cx="6095880" cy="5334480"/>
                    <a:chOff x="0" y="1523520"/>
                    <a:chExt cx="6095880" cy="533448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flipV="1">
                      <a:off x="1523520" y="3048120"/>
                      <a:ext cx="381240" cy="76176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8" name=""/>
                    <p:cNvGrpSpPr/>
                    <p:nvPr/>
                  </p:nvGrpSpPr>
                  <p:grpSpPr>
                    <a:xfrm>
                      <a:off x="0" y="1523520"/>
                      <a:ext cx="6095880" cy="5334480"/>
                      <a:chOff x="0" y="1523520"/>
                      <a:chExt cx="6095880" cy="5334480"/>
                    </a:xfrm>
                  </p:grpSpPr>
                  <p:sp>
                    <p:nvSpPr>
                      <p:cNvPr id="339" name=""/>
                      <p:cNvSpPr/>
                      <p:nvPr/>
                    </p:nvSpPr>
                    <p:spPr>
                      <a:xfrm flipH="1">
                        <a:off x="1904760" y="4952880"/>
                        <a:ext cx="1143000" cy="762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1905120" y="5715000"/>
                        <a:ext cx="0" cy="762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1905120" y="647712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286000" y="6477120"/>
                        <a:ext cx="0" cy="380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flipH="1" flipV="1">
                        <a:off x="1905120" y="6477120"/>
                        <a:ext cx="380880" cy="380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 flipH="1" flipV="1">
                        <a:off x="1523520" y="5714640"/>
                        <a:ext cx="381240" cy="762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 flipV="1">
                        <a:off x="1523880" y="4952520"/>
                        <a:ext cx="762120" cy="762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 flipH="1">
                        <a:off x="1142640" y="4952880"/>
                        <a:ext cx="1066680" cy="381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1143000" y="5334120"/>
                        <a:ext cx="0" cy="76176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1066680" y="6095880"/>
                        <a:ext cx="457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1523880" y="6095880"/>
                        <a:ext cx="0" cy="381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 flipH="1" flipV="1">
                        <a:off x="1143000" y="6095520"/>
                        <a:ext cx="380880" cy="381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 flipH="1" flipV="1">
                        <a:off x="762120" y="5334120"/>
                        <a:ext cx="304560" cy="76176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 flipV="1">
                        <a:off x="762120" y="4571640"/>
                        <a:ext cx="1143000" cy="762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 flipV="1">
                        <a:off x="1905120" y="3809520"/>
                        <a:ext cx="0" cy="762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0" y="1523520"/>
                        <a:ext cx="6095880" cy="2286360"/>
                        <a:chOff x="0" y="1523520"/>
                        <a:chExt cx="6095880" cy="2286360"/>
                      </a:xfrm>
                    </p:grpSpPr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H="1">
                          <a:off x="1905120" y="1905120"/>
                          <a:ext cx="304560" cy="380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6" name=""/>
                        <p:cNvGrpSpPr/>
                        <p:nvPr/>
                      </p:nvGrpSpPr>
                      <p:grpSpPr>
                        <a:xfrm>
                          <a:off x="0" y="1523520"/>
                          <a:ext cx="2286000" cy="2286360"/>
                          <a:chOff x="0" y="1523520"/>
                          <a:chExt cx="2286000" cy="2286360"/>
                        </a:xfrm>
                      </p:grpSpPr>
                      <p:grpSp>
                        <p:nvGrpSpPr>
                          <p:cNvPr id="357" name=""/>
                          <p:cNvGrpSpPr/>
                          <p:nvPr/>
                        </p:nvGrpSpPr>
                        <p:grpSpPr>
                          <a:xfrm>
                            <a:off x="380520" y="3048120"/>
                            <a:ext cx="1143360" cy="761760"/>
                            <a:chOff x="380520" y="3048120"/>
                            <a:chExt cx="1143360" cy="761760"/>
                          </a:xfrm>
                        </p:grpSpPr>
                        <p:sp>
                          <p:nvSpPr>
                            <p:cNvPr id="358" name=""/>
                            <p:cNvSpPr/>
                            <p:nvPr/>
                          </p:nvSpPr>
                          <p:spPr>
                            <a:xfrm flipH="1">
                              <a:off x="1143000" y="3048120"/>
                              <a:ext cx="380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333333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" name=""/>
                            <p:cNvSpPr/>
                            <p:nvPr/>
                          </p:nvSpPr>
                          <p:spPr>
                            <a:xfrm flipH="1">
                              <a:off x="380520" y="3048120"/>
                              <a:ext cx="685800" cy="76176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333333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 flipH="1" flipV="1">
                            <a:off x="0" y="3429000"/>
                            <a:ext cx="380880" cy="3808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0" y="2666520"/>
                            <a:ext cx="380880" cy="762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V="1">
                            <a:off x="380880" y="2286000"/>
                            <a:ext cx="0" cy="3808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3" name=""/>
                          <p:cNvSpPr/>
                          <p:nvPr/>
                        </p:nvSpPr>
                        <p:spPr>
                          <a:xfrm flipV="1">
                            <a:off x="380880" y="1905120"/>
                            <a:ext cx="381240" cy="3808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 flipV="1">
                            <a:off x="762120" y="1523520"/>
                            <a:ext cx="0" cy="381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"/>
                          <p:cNvSpPr/>
                          <p:nvPr/>
                        </p:nvSpPr>
                        <p:spPr>
                          <a:xfrm>
                            <a:off x="762120" y="1523880"/>
                            <a:ext cx="380880" cy="381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"/>
                          <p:cNvSpPr/>
                          <p:nvPr/>
                        </p:nvSpPr>
                        <p:spPr>
                          <a:xfrm flipV="1">
                            <a:off x="1143000" y="1523880"/>
                            <a:ext cx="0" cy="4572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7" name=""/>
                          <p:cNvSpPr/>
                          <p:nvPr/>
                        </p:nvSpPr>
                        <p:spPr>
                          <a:xfrm>
                            <a:off x="1143000" y="1523880"/>
                            <a:ext cx="380880" cy="381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8" name=""/>
                          <p:cNvSpPr/>
                          <p:nvPr/>
                        </p:nvSpPr>
                        <p:spPr>
                          <a:xfrm>
                            <a:off x="1600200" y="1905120"/>
                            <a:ext cx="68580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9" name=""/>
                          <p:cNvSpPr/>
                          <p:nvPr/>
                        </p:nvSpPr>
                        <p:spPr>
                          <a:xfrm flipH="1">
                            <a:off x="685800" y="2438280"/>
                            <a:ext cx="76320" cy="152640"/>
                          </a:xfrm>
                          <a:prstGeom prst="ellipse">
                            <a:avLst/>
                          </a:prstGeom>
                          <a:solidFill>
                            <a:srgbClr val="0000ff"/>
                          </a:solidFill>
                          <a:ln w="9360">
                            <a:solidFill>
                              <a:srgbClr val="333333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33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>
                          <a:off x="1905120" y="2286000"/>
                          <a:ext cx="7617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 flipH="1">
                          <a:off x="2286000" y="2286000"/>
                          <a:ext cx="380880" cy="380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2286000" y="2666880"/>
                          <a:ext cx="7621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 flipH="1">
                          <a:off x="2666520" y="2666880"/>
                          <a:ext cx="381240" cy="381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>
                          <a:off x="2666880" y="3048120"/>
                          <a:ext cx="7621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 flipH="1">
                          <a:off x="3048120" y="3048120"/>
                          <a:ext cx="380880" cy="380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3048120" y="3429000"/>
                          <a:ext cx="1143000" cy="380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 flipV="1">
                          <a:off x="4191120" y="3429000"/>
                          <a:ext cx="1904760" cy="380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33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78" name=""/>
                  <p:cNvSpPr/>
                  <p:nvPr/>
                </p:nvSpPr>
                <p:spPr>
                  <a:xfrm>
                    <a:off x="6095880" y="342900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477120" y="3429000"/>
                    <a:ext cx="380880" cy="380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V="1">
                    <a:off x="6858000" y="2666520"/>
                    <a:ext cx="762120" cy="11430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620120" y="2666880"/>
                    <a:ext cx="1143000" cy="381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8000640" y="304812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696080" y="3429000"/>
                    <a:ext cx="1447920" cy="380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" name=""/>
                <p:cNvSpPr/>
                <p:nvPr/>
              </p:nvSpPr>
              <p:spPr>
                <a:xfrm>
                  <a:off x="8381880" y="647712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7238520" y="5714640"/>
                  <a:ext cx="1143000" cy="11430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6477120" y="571500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6095520" y="4952520"/>
                  <a:ext cx="381240" cy="7621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4495320" y="4952880"/>
                  <a:ext cx="1600200" cy="381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3047760" y="4952520"/>
                  <a:ext cx="1523880" cy="381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0" name=""/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4c2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2:50:24Z</dcterms:created>
  <dc:creator>PC</dc:creator>
  <dc:description/>
  <dc:language>en-US</dc:language>
  <cp:lastModifiedBy>учитель</cp:lastModifiedBy>
  <dcterms:modified xsi:type="dcterms:W3CDTF">2004-05-13T08:45:03Z</dcterms:modified>
  <cp:revision>61</cp:revision>
  <dc:subject/>
  <dc:title>Заголовок слайда отсутствует</dc:title>
</cp:coreProperties>
</file>