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671-D345-4A80-B970-600B69C3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D81-5DF8-4468-93CD-15A746FB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758-DBDE-4F73-96E4-0BED4AC3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1A8-EEAF-4CF9-81DA-DE008177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39C6-E25C-403D-A663-568B7D63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4FA5-083A-41D7-A3B3-7D471A9D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00B-6CD3-42AC-B19E-492485A5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7607-F4D9-4EC2-AE3B-A06B779E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1A1B-3849-496B-93F2-B3B32004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166D-348F-4AD3-8114-39E823D7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E52-8E83-4B8D-B971-7FDC00F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858-F6BC-4CCF-9C8F-9CE7B761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456F-0092-4CF0-8342-47EC070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31BF-FBC5-4FFC-8DC6-19B70B91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A2FE-7DEA-464F-84DD-FCC24CC6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4A0-CB75-48F4-8C12-5BEE7CAA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3BB3-EED3-4A44-95C3-4424E295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A84-43AD-417C-962F-CAE3C5D8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F5D-082C-46A3-A582-3EE5CE99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53E-B127-4C4F-B0EA-F9B230B5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B3D-A314-4D19-8FD3-64C36359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422-4DF1-4207-A7EE-D6D9896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211-67A9-4C60-9551-AE45AD4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3A8-A5B5-492F-B2EA-07A1E1DD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C87-B106-4811-A96A-A4DC04AA6B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BF8-4429-4746-B114-6BCBB8B22B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Математика в гостях у физик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 класс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680" y="559584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алич, 2009 год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572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У лицей №3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. Галич Костромской области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362320" y="3352680"/>
            <a:ext cx="19810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2268720" cy="251964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Найдите угловой коэффициент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2381040" cy="25192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346480" cy="25365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4952880" y="4114800"/>
            <a:ext cx="2260800" cy="24321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143000" y="2395440"/>
            <a:ext cx="9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=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=х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38880" y="2286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=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=2х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76720" y="495288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=6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=6х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4876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=5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=5х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5"/>
          <a:stretch/>
        </p:blipFill>
        <p:spPr>
          <a:xfrm>
            <a:off x="7543800" y="228600"/>
            <a:ext cx="118116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933480" cy="8287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3429000" y="3581280"/>
            <a:ext cx="2508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Задание №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Экспериментально установить вид  зависимости силы тяжести от массы тела.</a:t>
            </a:r>
            <a:br>
              <a:rPr sz="2800"/>
            </a:b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Оборудование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 динамометр;  наборы грузов массой по 100 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. Определить для динамометр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цену деления__________________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предел  измерения______________________________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погрешность ______________________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2. Измерить силу тяжести, действующую на 1-й, 2-й, 3-й, 4-й груз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3. Записать результаты опыта в таблицу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4. Построить график зависимости силы тяжести от массы тела на миллиметровой бумаг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5. Определить коэффициент пропорциональности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6. Сделать выводы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7543800" y="533520"/>
            <a:ext cx="933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Задание  2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Экспериментально установить вид зависимости силы упругости от удлинения пружины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Оборудование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  динамометр; наборы грузов массой по 100 г; линейка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Определить для динамометр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цену деления__________________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предел  измерения______________________________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погрешность ______________________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Определить для линейк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цену деления__________________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предел  измерения______________________________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погрешность ______________________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2. Измерить удлинение пружины и  силу упругости пружины при подвешивании грузов массой 100г, 200г, 300 г, 400г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3. Записать результаты опыта в таблицу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4. Построить график зависимости силы упругости от удлинения пружины на миллиметровой бумаге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5. Определить коэффициент пропорциональности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40458c"/>
                </a:solidFill>
                <a:latin typeface="Tahoma"/>
              </a:rPr>
              <a:t>6. Сделать выводы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7543800" y="533520"/>
            <a:ext cx="933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231840" y="150840"/>
            <a:ext cx="868356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152280" y="184320"/>
            <a:ext cx="89154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место заключ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Функция линейная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Вполне обыкновенн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Но оказалась очень важною он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Мы много функций разных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Изучим, и однажды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Мы снова соберемся здесь тогд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33480" cy="8287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14857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Удачного дня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609480" y="1600200"/>
            <a:ext cx="7848360" cy="2495160"/>
            <a:chOff x="609480" y="1600200"/>
            <a:chExt cx="7848360" cy="2495160"/>
          </a:xfrm>
        </p:grpSpPr>
        <p:pic>
          <p:nvPicPr>
            <p:cNvPr id="825" name="" descr=""/>
            <p:cNvPicPr/>
            <p:nvPr/>
          </p:nvPicPr>
          <p:blipFill>
            <a:blip r:embed="rId1"/>
            <a:srcRect l="48024" t="0" r="0" b="0"/>
            <a:stretch/>
          </p:blipFill>
          <p:spPr>
            <a:xfrm>
              <a:off x="2863080" y="1600200"/>
              <a:ext cx="5594760" cy="24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2"/>
            <a:srcRect l="0" t="0" r="79072" b="0"/>
            <a:stretch/>
          </p:blipFill>
          <p:spPr>
            <a:xfrm>
              <a:off x="609480" y="1600200"/>
              <a:ext cx="2253600" cy="24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7" name=""/>
          <p:cNvGrpSpPr/>
          <p:nvPr/>
        </p:nvGrpSpPr>
        <p:grpSpPr>
          <a:xfrm>
            <a:off x="1704240" y="4343400"/>
            <a:ext cx="5686920" cy="1752480"/>
            <a:chOff x="1704240" y="4343400"/>
            <a:chExt cx="5686920" cy="1752480"/>
          </a:xfrm>
        </p:grpSpPr>
        <p:sp>
          <p:nvSpPr>
            <p:cNvPr id="828" name=""/>
            <p:cNvSpPr/>
            <p:nvPr/>
          </p:nvSpPr>
          <p:spPr>
            <a:xfrm>
              <a:off x="1704240" y="4519440"/>
              <a:ext cx="4676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58c"/>
                  </a:solidFill>
                  <a:latin typeface="Tahoma"/>
                </a:rPr>
                <a:t>Наталья Владимировна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58c"/>
                  </a:solidFill>
                  <a:latin typeface="Tahoma"/>
                </a:rPr>
                <a:t>Николай Иванович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829" name="" descr=""/>
            <p:cNvPicPr/>
            <p:nvPr/>
          </p:nvPicPr>
          <p:blipFill>
            <a:blip r:embed="rId3"/>
            <a:stretch/>
          </p:blipFill>
          <p:spPr>
            <a:xfrm>
              <a:off x="6553080" y="5257800"/>
              <a:ext cx="8380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4"/>
            <a:stretch/>
          </p:blipFill>
          <p:spPr>
            <a:xfrm>
              <a:off x="6553080" y="434340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" descr=""/>
          <p:cNvPicPr/>
          <p:nvPr/>
        </p:nvPicPr>
        <p:blipFill>
          <a:blip r:embed="rId5"/>
          <a:stretch/>
        </p:blipFill>
        <p:spPr>
          <a:xfrm>
            <a:off x="609480" y="5181480"/>
            <a:ext cx="933480" cy="8287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6"/>
          <a:stretch/>
        </p:blipFill>
        <p:spPr>
          <a:xfrm>
            <a:off x="533520" y="4267080"/>
            <a:ext cx="10666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очка зрения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Что касается математики, то она интересует меня лишь постольку, поскольку я могу применить её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в физик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(Эйнштейн А.)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2336760" cy="1995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933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очка зр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Без знания математики нельзя понять ни основ современной техники, ни того, как ученые изучают природные и социальные явлени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(Колмогоров А.Н.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819160" cy="2341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18116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Задачи уро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Выявить  с помощью эксперимента вид зависимости силы тяжести от массы тела, построить график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Выявить с помощью эксперимента вид зависимости силы упругости от удлинения, построить график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Проанализировать связь темы «Линейная функция» с изучаемыми физическими величинами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391520" y="304920"/>
            <a:ext cx="1181160" cy="958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324480" y="380880"/>
            <a:ext cx="933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Линейная функция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0" r="0" b="18089"/>
          <a:stretch/>
        </p:blipFill>
        <p:spPr>
          <a:xfrm>
            <a:off x="685800" y="3276720"/>
            <a:ext cx="8039160" cy="1954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388320" y="213372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у=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kx+m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696080" y="304920"/>
            <a:ext cx="9525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Назовите термины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1544760"/>
          <a:ext cx="8153280" cy="4116240"/>
        </p:xfrm>
        <a:graphic>
          <a:graphicData uri="http://schemas.openxmlformats.org/drawingml/2006/table">
            <a:tbl>
              <a:tblPr/>
              <a:tblGrid>
                <a:gridCol w="4233960"/>
                <a:gridCol w="39193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еменная х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Зависимая  переменная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Значение функци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Абсцисс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5406120" y="170028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еременная у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666880"/>
            <a:ext cx="40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езависимая переменная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373392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Аргумент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724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Ордината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93240" y="586728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у=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kx+m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20120" y="152280"/>
            <a:ext cx="10285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Определите, на каких рисунках допущены ошибки при построении графиков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0" r="48668" b="10447"/>
          <a:stretch/>
        </p:blipFill>
        <p:spPr>
          <a:xfrm>
            <a:off x="1143000" y="1600200"/>
            <a:ext cx="4572000" cy="24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52006" t="0" r="0" b="12087"/>
          <a:stretch/>
        </p:blipFill>
        <p:spPr>
          <a:xfrm>
            <a:off x="3809880" y="3962520"/>
            <a:ext cx="4648320" cy="2582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467480" y="304920"/>
            <a:ext cx="125748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5000" y="16002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62000" y="1371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2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28080" y="41148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19200" y="41148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99600" y="172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952880" y="3962160"/>
            <a:ext cx="3693240" cy="2565360"/>
            <a:chOff x="4952880" y="3962160"/>
            <a:chExt cx="3693240" cy="2565360"/>
          </a:xfrm>
        </p:grpSpPr>
        <p:grpSp>
          <p:nvGrpSpPr>
            <p:cNvPr id="248" name=""/>
            <p:cNvGrpSpPr/>
            <p:nvPr/>
          </p:nvGrpSpPr>
          <p:grpSpPr>
            <a:xfrm>
              <a:off x="4952880" y="3962160"/>
              <a:ext cx="3693240" cy="2565360"/>
              <a:chOff x="4952880" y="3962160"/>
              <a:chExt cx="3693240" cy="256536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4952880" y="3962160"/>
                <a:ext cx="3693240" cy="2565360"/>
                <a:chOff x="4952880" y="3962160"/>
                <a:chExt cx="3693240" cy="256536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4952880" y="3962160"/>
                  <a:ext cx="3370320" cy="2565360"/>
                  <a:chOff x="4952880" y="3962160"/>
                  <a:chExt cx="3370320" cy="2565360"/>
                </a:xfrm>
              </p:grpSpPr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430240" y="3962160"/>
                    <a:ext cx="2505600" cy="2565360"/>
                    <a:chOff x="5430240" y="3962160"/>
                    <a:chExt cx="2505600" cy="25653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V="1">
                      <a:off x="6504120" y="3962160"/>
                      <a:ext cx="0" cy="2408040"/>
                    </a:xfrm>
                    <a:prstGeom prst="line">
                      <a:avLst/>
                    </a:prstGeom>
                    <a:ln w="9360">
                      <a:solidFill>
                        <a:srgbClr val="40458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6504120" y="5522400"/>
                      <a:ext cx="178560" cy="126000"/>
                      <a:chOff x="6504120" y="5522400"/>
                      <a:chExt cx="178560" cy="12600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6504120" y="5585400"/>
                        <a:ext cx="178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650412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668268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6683040" y="5522400"/>
                      <a:ext cx="178560" cy="126000"/>
                      <a:chOff x="6683040" y="5522400"/>
                      <a:chExt cx="178560" cy="12600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6683040" y="5585400"/>
                        <a:ext cx="178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8304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86160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6861960" y="5522400"/>
                      <a:ext cx="178920" cy="126000"/>
                      <a:chOff x="6861960" y="5522400"/>
                      <a:chExt cx="178920" cy="126000"/>
                    </a:xfrm>
                  </p:grpSpPr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861960" y="5585400"/>
                        <a:ext cx="17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86196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704088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7041240" y="5522400"/>
                      <a:ext cx="178920" cy="126000"/>
                      <a:chOff x="7041240" y="5522400"/>
                      <a:chExt cx="178920" cy="12600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7041240" y="5585400"/>
                        <a:ext cx="17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704124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722016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7220160" y="5522400"/>
                      <a:ext cx="178560" cy="126000"/>
                      <a:chOff x="7220160" y="5522400"/>
                      <a:chExt cx="178560" cy="126000"/>
                    </a:xfrm>
                  </p:grpSpPr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220160" y="5585400"/>
                        <a:ext cx="178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722016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739872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7399080" y="5522400"/>
                      <a:ext cx="178920" cy="126000"/>
                      <a:chOff x="7399080" y="5522400"/>
                      <a:chExt cx="178920" cy="126000"/>
                    </a:xfrm>
                  </p:grpSpPr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7399080" y="5585400"/>
                        <a:ext cx="17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739908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757800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7" name=""/>
                    <p:cNvGrpSpPr/>
                    <p:nvPr/>
                  </p:nvGrpSpPr>
                  <p:grpSpPr>
                    <a:xfrm>
                      <a:off x="7578000" y="5522400"/>
                      <a:ext cx="178560" cy="126000"/>
                      <a:chOff x="7578000" y="5522400"/>
                      <a:chExt cx="178560" cy="126000"/>
                    </a:xfrm>
                  </p:grpSpPr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7578000" y="5585400"/>
                        <a:ext cx="178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757800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75656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1" name=""/>
                    <p:cNvGrpSpPr/>
                    <p:nvPr/>
                  </p:nvGrpSpPr>
                  <p:grpSpPr>
                    <a:xfrm>
                      <a:off x="7756920" y="5522400"/>
                      <a:ext cx="178920" cy="126000"/>
                      <a:chOff x="7756920" y="5522400"/>
                      <a:chExt cx="178920" cy="126000"/>
                    </a:xfrm>
                  </p:grpSpPr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7756920" y="5585400"/>
                        <a:ext cx="17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75692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793584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5" name=""/>
                    <p:cNvGrpSpPr/>
                    <p:nvPr/>
                  </p:nvGrpSpPr>
                  <p:grpSpPr>
                    <a:xfrm>
                      <a:off x="6325200" y="5522400"/>
                      <a:ext cx="178920" cy="126000"/>
                      <a:chOff x="6325200" y="5522400"/>
                      <a:chExt cx="178920" cy="126000"/>
                    </a:xfrm>
                  </p:grpSpPr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6325200" y="5585400"/>
                        <a:ext cx="17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632520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650412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6146280" y="5522400"/>
                      <a:ext cx="178560" cy="126000"/>
                      <a:chOff x="6146280" y="5522400"/>
                      <a:chExt cx="178560" cy="12600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6146280" y="5585400"/>
                        <a:ext cx="178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614628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632484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5967360" y="5522400"/>
                      <a:ext cx="178920" cy="126000"/>
                      <a:chOff x="5967360" y="5522400"/>
                      <a:chExt cx="178920" cy="12600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5967360" y="5585400"/>
                        <a:ext cx="17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596736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614628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5787720" y="5522400"/>
                      <a:ext cx="178920" cy="126000"/>
                      <a:chOff x="5787720" y="5522400"/>
                      <a:chExt cx="178920" cy="126000"/>
                    </a:xfrm>
                  </p:grpSpPr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5787720" y="5585400"/>
                        <a:ext cx="17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578772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596664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1" name=""/>
                    <p:cNvGrpSpPr/>
                    <p:nvPr/>
                  </p:nvGrpSpPr>
                  <p:grpSpPr>
                    <a:xfrm>
                      <a:off x="5609160" y="5522400"/>
                      <a:ext cx="178560" cy="126000"/>
                      <a:chOff x="5609160" y="5522400"/>
                      <a:chExt cx="178560" cy="126000"/>
                    </a:xfrm>
                  </p:grpSpPr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5609160" y="5585400"/>
                        <a:ext cx="178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560916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578772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5430240" y="5522400"/>
                      <a:ext cx="178920" cy="126000"/>
                      <a:chOff x="5430240" y="5522400"/>
                      <a:chExt cx="178920" cy="12600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5430240" y="5585400"/>
                        <a:ext cx="17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5430240" y="5522400"/>
                        <a:ext cx="0" cy="126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5609160" y="5522400"/>
                        <a:ext cx="0" cy="125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6444360" y="5584680"/>
                      <a:ext cx="119520" cy="188280"/>
                      <a:chOff x="6444360" y="5584680"/>
                      <a:chExt cx="119520" cy="18828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6504120" y="558468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flipH="1">
                        <a:off x="6444360" y="558468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 flipH="1">
                        <a:off x="6445080" y="577296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6444360" y="5774040"/>
                      <a:ext cx="119520" cy="188280"/>
                      <a:chOff x="6444360" y="5774040"/>
                      <a:chExt cx="119520" cy="18828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6504120" y="577404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 flipH="1">
                        <a:off x="6444360" y="577404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 flipH="1">
                        <a:off x="6445080" y="596232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6444360" y="5962320"/>
                      <a:ext cx="119520" cy="188280"/>
                      <a:chOff x="6444360" y="5962320"/>
                      <a:chExt cx="119520" cy="188280"/>
                    </a:xfrm>
                  </p:grpSpPr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6504120" y="596232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 flipH="1">
                        <a:off x="6444360" y="596232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 flipH="1">
                        <a:off x="6445080" y="615060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1" name=""/>
                    <p:cNvGrpSpPr/>
                    <p:nvPr/>
                  </p:nvGrpSpPr>
                  <p:grpSpPr>
                    <a:xfrm>
                      <a:off x="6444360" y="6150960"/>
                      <a:ext cx="119520" cy="188280"/>
                      <a:chOff x="6444360" y="6150960"/>
                      <a:chExt cx="119520" cy="188280"/>
                    </a:xfrm>
                  </p:grpSpPr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6504120" y="615096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 flipH="1">
                        <a:off x="6444360" y="615096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 flipH="1">
                        <a:off x="6445080" y="633924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6444360" y="6339240"/>
                      <a:ext cx="119520" cy="188280"/>
                      <a:chOff x="6444360" y="6339240"/>
                      <a:chExt cx="119520" cy="188280"/>
                    </a:xfrm>
                  </p:grpSpPr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6504120" y="633924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 flipH="1">
                        <a:off x="6444360" y="633924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 flipH="1">
                        <a:off x="6445080" y="652752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6444360" y="5396400"/>
                      <a:ext cx="119520" cy="188280"/>
                      <a:chOff x="6444360" y="5396400"/>
                      <a:chExt cx="119520" cy="18828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6504120" y="539640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 flipH="1">
                        <a:off x="6444360" y="539640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 flipH="1">
                        <a:off x="6445080" y="558468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3" name=""/>
                    <p:cNvGrpSpPr/>
                    <p:nvPr/>
                  </p:nvGrpSpPr>
                  <p:grpSpPr>
                    <a:xfrm>
                      <a:off x="6444360" y="5207760"/>
                      <a:ext cx="119520" cy="188280"/>
                      <a:chOff x="6444360" y="5207760"/>
                      <a:chExt cx="119520" cy="188280"/>
                    </a:xfrm>
                  </p:grpSpPr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6504120" y="520776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 flipH="1">
                        <a:off x="6444360" y="520776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 flipH="1">
                        <a:off x="6445080" y="539604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6444360" y="5019120"/>
                      <a:ext cx="119520" cy="188280"/>
                      <a:chOff x="6444360" y="5019120"/>
                      <a:chExt cx="119520" cy="18828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6504120" y="501912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 flipH="1">
                        <a:off x="6444360" y="501912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 flipH="1">
                        <a:off x="6445080" y="520740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6444360" y="4830480"/>
                      <a:ext cx="119520" cy="188280"/>
                      <a:chOff x="6444360" y="4830480"/>
                      <a:chExt cx="119520" cy="18828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6504120" y="483048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 flipH="1">
                        <a:off x="6444360" y="483048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 flipH="1">
                        <a:off x="6445080" y="501876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5" name=""/>
                    <p:cNvGrpSpPr/>
                    <p:nvPr/>
                  </p:nvGrpSpPr>
                  <p:grpSpPr>
                    <a:xfrm>
                      <a:off x="6444360" y="4642200"/>
                      <a:ext cx="119520" cy="188280"/>
                      <a:chOff x="6444360" y="4642200"/>
                      <a:chExt cx="119520" cy="188280"/>
                    </a:xfrm>
                  </p:grpSpPr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6504120" y="464220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 flipH="1">
                        <a:off x="6444360" y="464220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 flipH="1">
                        <a:off x="6445080" y="483048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9" name=""/>
                    <p:cNvGrpSpPr/>
                    <p:nvPr/>
                  </p:nvGrpSpPr>
                  <p:grpSpPr>
                    <a:xfrm>
                      <a:off x="6444360" y="4453560"/>
                      <a:ext cx="119520" cy="188280"/>
                      <a:chOff x="6444360" y="4453560"/>
                      <a:chExt cx="119520" cy="188280"/>
                    </a:xfrm>
                  </p:grpSpPr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6504120" y="4453560"/>
                        <a:ext cx="0" cy="1882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 flipH="1">
                        <a:off x="6444360" y="4453560"/>
                        <a:ext cx="11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 flipH="1">
                        <a:off x="6445080" y="4641840"/>
                        <a:ext cx="118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481080" y="558468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6611400" y="559584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6368760" y="530208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"/>
                  <p:cNvSpPr/>
                  <p:nvPr/>
                </p:nvSpPr>
                <p:spPr>
                  <a:xfrm>
                    <a:off x="4952880" y="5596560"/>
                    <a:ext cx="3370320" cy="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317440" y="5567400"/>
                  <a:ext cx="328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6533640" y="396252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58c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V="1">
              <a:off x="5516640" y="4538880"/>
              <a:ext cx="2520720" cy="172872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37000">
              <a:off x="6701400" y="5087520"/>
              <a:ext cx="5774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11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11433"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00200" y="4190760"/>
            <a:ext cx="3124800" cy="2332440"/>
            <a:chOff x="1600200" y="4190760"/>
            <a:chExt cx="3124800" cy="2332440"/>
          </a:xfrm>
        </p:grpSpPr>
        <p:grpSp>
          <p:nvGrpSpPr>
            <p:cNvPr id="362" name=""/>
            <p:cNvGrpSpPr/>
            <p:nvPr/>
          </p:nvGrpSpPr>
          <p:grpSpPr>
            <a:xfrm>
              <a:off x="1600200" y="4190760"/>
              <a:ext cx="3124800" cy="2332440"/>
              <a:chOff x="1600200" y="4190760"/>
              <a:chExt cx="3124800" cy="23324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1600200" y="4190760"/>
                <a:ext cx="3124800" cy="2332440"/>
                <a:chOff x="1600200" y="4190760"/>
                <a:chExt cx="3124800" cy="233244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1600200" y="4190760"/>
                  <a:ext cx="2799720" cy="2332440"/>
                  <a:chOff x="1600200" y="4190760"/>
                  <a:chExt cx="2799720" cy="233244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1996560" y="4190760"/>
                    <a:ext cx="2081160" cy="2332440"/>
                    <a:chOff x="1996560" y="4190760"/>
                    <a:chExt cx="2081160" cy="23324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V="1">
                      <a:off x="2888640" y="4190760"/>
                      <a:ext cx="0" cy="2189160"/>
                    </a:xfrm>
                    <a:prstGeom prst="line">
                      <a:avLst/>
                    </a:prstGeom>
                    <a:ln w="9360">
                      <a:solidFill>
                        <a:srgbClr val="40458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67" name=""/>
                    <p:cNvGrpSpPr/>
                    <p:nvPr/>
                  </p:nvGrpSpPr>
                  <p:grpSpPr>
                    <a:xfrm>
                      <a:off x="2888640" y="5609160"/>
                      <a:ext cx="148320" cy="114480"/>
                      <a:chOff x="2888640" y="5609160"/>
                      <a:chExt cx="148320" cy="114480"/>
                    </a:xfrm>
                  </p:grpSpPr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288864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288864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303696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1" name=""/>
                    <p:cNvGrpSpPr/>
                    <p:nvPr/>
                  </p:nvGrpSpPr>
                  <p:grpSpPr>
                    <a:xfrm>
                      <a:off x="3037320" y="5609160"/>
                      <a:ext cx="148320" cy="114480"/>
                      <a:chOff x="3037320" y="5609160"/>
                      <a:chExt cx="148320" cy="114480"/>
                    </a:xfrm>
                  </p:grpSpPr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303732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303732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318564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5" name=""/>
                    <p:cNvGrpSpPr/>
                    <p:nvPr/>
                  </p:nvGrpSpPr>
                  <p:grpSpPr>
                    <a:xfrm>
                      <a:off x="3185640" y="5609160"/>
                      <a:ext cx="148320" cy="114480"/>
                      <a:chOff x="3185640" y="5609160"/>
                      <a:chExt cx="148320" cy="114480"/>
                    </a:xfrm>
                  </p:grpSpPr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318564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318564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333396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3335040" y="5609160"/>
                      <a:ext cx="148320" cy="114480"/>
                      <a:chOff x="3335040" y="5609160"/>
                      <a:chExt cx="148320" cy="114480"/>
                    </a:xfrm>
                  </p:grpSpPr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333504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33504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348336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3483720" y="5609160"/>
                      <a:ext cx="148320" cy="114480"/>
                      <a:chOff x="3483720" y="5609160"/>
                      <a:chExt cx="148320" cy="11448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48372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348372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363204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7" name=""/>
                    <p:cNvGrpSpPr/>
                    <p:nvPr/>
                  </p:nvGrpSpPr>
                  <p:grpSpPr>
                    <a:xfrm>
                      <a:off x="3632400" y="5609160"/>
                      <a:ext cx="148320" cy="114480"/>
                      <a:chOff x="3632400" y="5609160"/>
                      <a:chExt cx="148320" cy="114480"/>
                    </a:xfrm>
                  </p:grpSpPr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363240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363240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378072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1" name=""/>
                    <p:cNvGrpSpPr/>
                    <p:nvPr/>
                  </p:nvGrpSpPr>
                  <p:grpSpPr>
                    <a:xfrm>
                      <a:off x="3781080" y="5609160"/>
                      <a:ext cx="148320" cy="114480"/>
                      <a:chOff x="3781080" y="5609160"/>
                      <a:chExt cx="148320" cy="114480"/>
                    </a:xfrm>
                  </p:grpSpPr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378108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78108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392940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5" name=""/>
                    <p:cNvGrpSpPr/>
                    <p:nvPr/>
                  </p:nvGrpSpPr>
                  <p:grpSpPr>
                    <a:xfrm>
                      <a:off x="3929400" y="5609160"/>
                      <a:ext cx="148320" cy="114480"/>
                      <a:chOff x="3929400" y="5609160"/>
                      <a:chExt cx="148320" cy="114480"/>
                    </a:xfrm>
                  </p:grpSpPr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392940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392940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407772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2739960" y="5609160"/>
                      <a:ext cx="148320" cy="114480"/>
                      <a:chOff x="2739960" y="5609160"/>
                      <a:chExt cx="148320" cy="11448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273996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273996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288828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2591640" y="5609160"/>
                      <a:ext cx="148320" cy="114480"/>
                      <a:chOff x="2591640" y="5609160"/>
                      <a:chExt cx="148320" cy="114480"/>
                    </a:xfrm>
                  </p:grpSpPr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259164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259164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273996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2442960" y="5609160"/>
                      <a:ext cx="148320" cy="114480"/>
                      <a:chOff x="2442960" y="5609160"/>
                      <a:chExt cx="148320" cy="114480"/>
                    </a:xfrm>
                  </p:grpSpPr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244296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244296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259128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1" name=""/>
                    <p:cNvGrpSpPr/>
                    <p:nvPr/>
                  </p:nvGrpSpPr>
                  <p:grpSpPr>
                    <a:xfrm>
                      <a:off x="2293560" y="5609160"/>
                      <a:ext cx="148320" cy="114480"/>
                      <a:chOff x="2293560" y="5609160"/>
                      <a:chExt cx="148320" cy="114480"/>
                    </a:xfrm>
                  </p:grpSpPr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229356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229356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244188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5" name=""/>
                    <p:cNvGrpSpPr/>
                    <p:nvPr/>
                  </p:nvGrpSpPr>
                  <p:grpSpPr>
                    <a:xfrm>
                      <a:off x="2144880" y="5609160"/>
                      <a:ext cx="148320" cy="114480"/>
                      <a:chOff x="2144880" y="5609160"/>
                      <a:chExt cx="148320" cy="114480"/>
                    </a:xfrm>
                  </p:grpSpPr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214488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214488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229320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1996560" y="5609160"/>
                      <a:ext cx="148320" cy="114480"/>
                      <a:chOff x="1996560" y="5609160"/>
                      <a:chExt cx="148320" cy="114480"/>
                    </a:xfrm>
                  </p:grpSpPr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1996560" y="5666400"/>
                        <a:ext cx="148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1996560" y="5609160"/>
                        <a:ext cx="0" cy="114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2144880" y="5609160"/>
                        <a:ext cx="0" cy="1137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3" name=""/>
                    <p:cNvGrpSpPr/>
                    <p:nvPr/>
                  </p:nvGrpSpPr>
                  <p:grpSpPr>
                    <a:xfrm>
                      <a:off x="2838960" y="5665680"/>
                      <a:ext cx="99360" cy="171360"/>
                      <a:chOff x="2838960" y="5665680"/>
                      <a:chExt cx="99360" cy="171360"/>
                    </a:xfrm>
                  </p:grpSpPr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2888640" y="5665680"/>
                        <a:ext cx="0" cy="171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 flipH="1">
                        <a:off x="2838960" y="566568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 flipH="1">
                        <a:off x="2839680" y="583704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2838960" y="5837760"/>
                      <a:ext cx="99360" cy="171000"/>
                      <a:chOff x="2838960" y="5837760"/>
                      <a:chExt cx="99360" cy="171000"/>
                    </a:xfrm>
                  </p:grpSpPr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2888640" y="5837760"/>
                        <a:ext cx="0" cy="171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 flipH="1">
                        <a:off x="2838960" y="583776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 flipH="1">
                        <a:off x="2839680" y="600876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2838960" y="6009120"/>
                      <a:ext cx="99360" cy="171360"/>
                      <a:chOff x="2838960" y="6009120"/>
                      <a:chExt cx="99360" cy="171360"/>
                    </a:xfrm>
                  </p:grpSpPr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2888640" y="6009120"/>
                        <a:ext cx="0" cy="171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 flipH="1">
                        <a:off x="2838960" y="600912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 flipH="1">
                        <a:off x="2839680" y="618048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5" name=""/>
                    <p:cNvGrpSpPr/>
                    <p:nvPr/>
                  </p:nvGrpSpPr>
                  <p:grpSpPr>
                    <a:xfrm>
                      <a:off x="2838960" y="6180480"/>
                      <a:ext cx="99360" cy="171000"/>
                      <a:chOff x="2838960" y="6180480"/>
                      <a:chExt cx="99360" cy="171000"/>
                    </a:xfrm>
                  </p:grpSpPr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2888640" y="6180480"/>
                        <a:ext cx="0" cy="171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 flipH="1">
                        <a:off x="2838960" y="618048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 flipH="1">
                        <a:off x="2839680" y="635148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2838960" y="6351840"/>
                      <a:ext cx="99360" cy="171360"/>
                      <a:chOff x="2838960" y="6351840"/>
                      <a:chExt cx="99360" cy="17136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2888640" y="6351840"/>
                        <a:ext cx="0" cy="171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 flipH="1">
                        <a:off x="2838960" y="635184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 flipH="1">
                        <a:off x="2839680" y="652320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2838960" y="5494320"/>
                      <a:ext cx="99360" cy="171000"/>
                      <a:chOff x="2838960" y="5494320"/>
                      <a:chExt cx="99360" cy="17100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2888640" y="5494320"/>
                        <a:ext cx="0" cy="171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 flipH="1">
                        <a:off x="2838960" y="549432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 flipH="1">
                        <a:off x="2839680" y="566532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2838960" y="5322960"/>
                      <a:ext cx="99360" cy="171360"/>
                      <a:chOff x="2838960" y="5322960"/>
                      <a:chExt cx="99360" cy="171360"/>
                    </a:xfrm>
                  </p:grpSpPr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2888640" y="5322960"/>
                        <a:ext cx="0" cy="171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 flipH="1">
                        <a:off x="2838960" y="532296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 flipH="1">
                        <a:off x="2839680" y="549432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1" name=""/>
                    <p:cNvGrpSpPr/>
                    <p:nvPr/>
                  </p:nvGrpSpPr>
                  <p:grpSpPr>
                    <a:xfrm>
                      <a:off x="2838960" y="5151600"/>
                      <a:ext cx="99360" cy="171000"/>
                      <a:chOff x="2838960" y="5151600"/>
                      <a:chExt cx="99360" cy="171000"/>
                    </a:xfrm>
                  </p:grpSpPr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2888640" y="5151600"/>
                        <a:ext cx="0" cy="171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 flipH="1">
                        <a:off x="2838960" y="515160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 flipH="1">
                        <a:off x="2839680" y="532260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5" name=""/>
                    <p:cNvGrpSpPr/>
                    <p:nvPr/>
                  </p:nvGrpSpPr>
                  <p:grpSpPr>
                    <a:xfrm>
                      <a:off x="2838960" y="4980240"/>
                      <a:ext cx="99360" cy="171360"/>
                      <a:chOff x="2838960" y="4980240"/>
                      <a:chExt cx="99360" cy="171360"/>
                    </a:xfrm>
                  </p:grpSpPr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2888640" y="4980240"/>
                        <a:ext cx="0" cy="171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 flipH="1">
                        <a:off x="2838960" y="498024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 flipH="1">
                        <a:off x="2839680" y="515160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2838960" y="4808880"/>
                      <a:ext cx="99360" cy="171000"/>
                      <a:chOff x="2838960" y="4808880"/>
                      <a:chExt cx="99360" cy="17100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2888640" y="4808880"/>
                        <a:ext cx="0" cy="1710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 flipH="1">
                        <a:off x="2838960" y="480888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 flipH="1">
                        <a:off x="2839680" y="497988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2838960" y="4637520"/>
                      <a:ext cx="99360" cy="171360"/>
                      <a:chOff x="2838960" y="4637520"/>
                      <a:chExt cx="99360" cy="171360"/>
                    </a:xfrm>
                  </p:grpSpPr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2888640" y="4637520"/>
                        <a:ext cx="0" cy="171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 flipH="1">
                        <a:off x="2838960" y="4637520"/>
                        <a:ext cx="99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"/>
                      <p:cNvSpPr/>
                      <p:nvPr/>
                    </p:nvSpPr>
                    <p:spPr>
                      <a:xfrm flipH="1">
                        <a:off x="2839680" y="4808880"/>
                        <a:ext cx="98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2869200" y="566568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2977560" y="567720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2774880" y="54086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0" name=""/>
                  <p:cNvSpPr/>
                  <p:nvPr/>
                </p:nvSpPr>
                <p:spPr>
                  <a:xfrm>
                    <a:off x="1600200" y="5676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1" name=""/>
                <p:cNvSpPr/>
                <p:nvPr/>
              </p:nvSpPr>
              <p:spPr>
                <a:xfrm>
                  <a:off x="4396320" y="5650200"/>
                  <a:ext cx="328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2913120" y="419112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58c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flipH="1">
              <a:off x="1675800" y="4648320"/>
              <a:ext cx="187164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840" y="5257800"/>
              <a:ext cx="5767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257800" y="990360"/>
            <a:ext cx="3494520" cy="2940480"/>
            <a:chOff x="5257800" y="990360"/>
            <a:chExt cx="3494520" cy="2940480"/>
          </a:xfrm>
        </p:grpSpPr>
        <p:grpSp>
          <p:nvGrpSpPr>
            <p:cNvPr id="476" name=""/>
            <p:cNvGrpSpPr/>
            <p:nvPr/>
          </p:nvGrpSpPr>
          <p:grpSpPr>
            <a:xfrm>
              <a:off x="5257800" y="990360"/>
              <a:ext cx="3494520" cy="2403360"/>
              <a:chOff x="5257800" y="990360"/>
              <a:chExt cx="3494520" cy="24033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5257800" y="990360"/>
                <a:ext cx="3494520" cy="2403360"/>
                <a:chOff x="5257800" y="990360"/>
                <a:chExt cx="3494520" cy="240336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5257800" y="990360"/>
                  <a:ext cx="3169800" cy="2403360"/>
                  <a:chOff x="5257800" y="990360"/>
                  <a:chExt cx="3169800" cy="2403360"/>
                </a:xfrm>
              </p:grpSpPr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5706720" y="990360"/>
                    <a:ext cx="2356560" cy="2403360"/>
                    <a:chOff x="5706720" y="990360"/>
                    <a:chExt cx="2356560" cy="240336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6716880" y="990360"/>
                      <a:ext cx="0" cy="2256120"/>
                    </a:xfrm>
                    <a:prstGeom prst="line">
                      <a:avLst/>
                    </a:prstGeom>
                    <a:ln w="9360">
                      <a:solidFill>
                        <a:srgbClr val="40458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1" name=""/>
                    <p:cNvGrpSpPr/>
                    <p:nvPr/>
                  </p:nvGrpSpPr>
                  <p:grpSpPr>
                    <a:xfrm>
                      <a:off x="6716880" y="2451960"/>
                      <a:ext cx="168120" cy="118080"/>
                      <a:chOff x="6716880" y="2451960"/>
                      <a:chExt cx="168120" cy="118080"/>
                    </a:xfrm>
                  </p:grpSpPr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671688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671688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688500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5" name=""/>
                    <p:cNvGrpSpPr/>
                    <p:nvPr/>
                  </p:nvGrpSpPr>
                  <p:grpSpPr>
                    <a:xfrm>
                      <a:off x="6885000" y="2451960"/>
                      <a:ext cx="168120" cy="118080"/>
                      <a:chOff x="6885000" y="2451960"/>
                      <a:chExt cx="168120" cy="118080"/>
                    </a:xfrm>
                  </p:grpSpPr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688500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688500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705312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7053120" y="2451960"/>
                      <a:ext cx="168120" cy="118080"/>
                      <a:chOff x="7053120" y="2451960"/>
                      <a:chExt cx="168120" cy="11808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705312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705312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722124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"/>
                    <p:cNvGrpSpPr/>
                    <p:nvPr/>
                  </p:nvGrpSpPr>
                  <p:grpSpPr>
                    <a:xfrm>
                      <a:off x="7221960" y="2451960"/>
                      <a:ext cx="168120" cy="118080"/>
                      <a:chOff x="7221960" y="2451960"/>
                      <a:chExt cx="168120" cy="118080"/>
                    </a:xfrm>
                  </p:grpSpPr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722196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722196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739008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7390440" y="2451960"/>
                      <a:ext cx="168120" cy="118080"/>
                      <a:chOff x="7390440" y="2451960"/>
                      <a:chExt cx="168120" cy="118080"/>
                    </a:xfrm>
                  </p:grpSpPr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739044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739044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755856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"/>
                    <p:cNvGrpSpPr/>
                    <p:nvPr/>
                  </p:nvGrpSpPr>
                  <p:grpSpPr>
                    <a:xfrm>
                      <a:off x="7558560" y="2451960"/>
                      <a:ext cx="168120" cy="118080"/>
                      <a:chOff x="7558560" y="2451960"/>
                      <a:chExt cx="168120" cy="118080"/>
                    </a:xfrm>
                  </p:grpSpPr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755856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755856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772668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5" name=""/>
                    <p:cNvGrpSpPr/>
                    <p:nvPr/>
                  </p:nvGrpSpPr>
                  <p:grpSpPr>
                    <a:xfrm>
                      <a:off x="7726680" y="2451960"/>
                      <a:ext cx="168120" cy="118080"/>
                      <a:chOff x="7726680" y="2451960"/>
                      <a:chExt cx="168120" cy="118080"/>
                    </a:xfrm>
                  </p:grpSpPr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772668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772668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"/>
                      <p:cNvSpPr/>
                      <p:nvPr/>
                    </p:nvSpPr>
                    <p:spPr>
                      <a:xfrm>
                        <a:off x="789480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9" name=""/>
                    <p:cNvGrpSpPr/>
                    <p:nvPr/>
                  </p:nvGrpSpPr>
                  <p:grpSpPr>
                    <a:xfrm>
                      <a:off x="7895160" y="2451960"/>
                      <a:ext cx="168120" cy="118080"/>
                      <a:chOff x="7895160" y="2451960"/>
                      <a:chExt cx="168120" cy="118080"/>
                    </a:xfrm>
                  </p:grpSpPr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89516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789516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806328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3" name=""/>
                    <p:cNvGrpSpPr/>
                    <p:nvPr/>
                  </p:nvGrpSpPr>
                  <p:grpSpPr>
                    <a:xfrm>
                      <a:off x="6548400" y="2451960"/>
                      <a:ext cx="168120" cy="118080"/>
                      <a:chOff x="6548400" y="2451960"/>
                      <a:chExt cx="168120" cy="118080"/>
                    </a:xfrm>
                  </p:grpSpPr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654840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654840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671652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6380280" y="2451960"/>
                      <a:ext cx="168120" cy="118080"/>
                      <a:chOff x="6380280" y="2451960"/>
                      <a:chExt cx="168120" cy="11808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>
                        <a:off x="638028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638028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654840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1" name=""/>
                    <p:cNvGrpSpPr/>
                    <p:nvPr/>
                  </p:nvGrpSpPr>
                  <p:grpSpPr>
                    <a:xfrm>
                      <a:off x="6211800" y="2451960"/>
                      <a:ext cx="168120" cy="118080"/>
                      <a:chOff x="6211800" y="2451960"/>
                      <a:chExt cx="168120" cy="118080"/>
                    </a:xfrm>
                  </p:grpSpPr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621180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621180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637992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"/>
                    <p:cNvGrpSpPr/>
                    <p:nvPr/>
                  </p:nvGrpSpPr>
                  <p:grpSpPr>
                    <a:xfrm>
                      <a:off x="6042960" y="2451960"/>
                      <a:ext cx="168120" cy="118080"/>
                      <a:chOff x="6042960" y="2451960"/>
                      <a:chExt cx="168120" cy="118080"/>
                    </a:xfrm>
                  </p:grpSpPr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604296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604296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621108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5874840" y="2451960"/>
                      <a:ext cx="168120" cy="118080"/>
                      <a:chOff x="5874840" y="2451960"/>
                      <a:chExt cx="168120" cy="11808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587484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587484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604296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5706720" y="2451960"/>
                      <a:ext cx="168120" cy="118080"/>
                      <a:chOff x="5706720" y="2451960"/>
                      <a:chExt cx="168120" cy="118080"/>
                    </a:xfrm>
                  </p:grpSpPr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5706720" y="2511000"/>
                        <a:ext cx="168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5706720" y="2451960"/>
                        <a:ext cx="0" cy="1180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5874840" y="2451960"/>
                        <a:ext cx="0" cy="11736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6660360" y="2510280"/>
                      <a:ext cx="112320" cy="176400"/>
                      <a:chOff x="6660360" y="2510280"/>
                      <a:chExt cx="112320" cy="176400"/>
                    </a:xfrm>
                  </p:grpSpPr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6716520" y="251028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 flipH="1">
                        <a:off x="6660360" y="251028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 flipH="1">
                        <a:off x="6661080" y="268668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6660360" y="2687760"/>
                      <a:ext cx="112320" cy="176400"/>
                      <a:chOff x="6660360" y="2687760"/>
                      <a:chExt cx="112320" cy="176400"/>
                    </a:xfrm>
                  </p:grpSpPr>
                  <p:sp>
                    <p:nvSpPr>
                      <p:cNvPr id="542" name=""/>
                      <p:cNvSpPr/>
                      <p:nvPr/>
                    </p:nvSpPr>
                    <p:spPr>
                      <a:xfrm>
                        <a:off x="6716520" y="268776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 flipH="1">
                        <a:off x="6660360" y="26877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 flipH="1">
                        <a:off x="6661080" y="286416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6660360" y="2864160"/>
                      <a:ext cx="112320" cy="176400"/>
                      <a:chOff x="6660360" y="2864160"/>
                      <a:chExt cx="112320" cy="17640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6716520" y="286416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H="1">
                        <a:off x="6660360" y="28641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flipH="1">
                        <a:off x="6661080" y="304056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9" name=""/>
                    <p:cNvGrpSpPr/>
                    <p:nvPr/>
                  </p:nvGrpSpPr>
                  <p:grpSpPr>
                    <a:xfrm>
                      <a:off x="6660360" y="3040920"/>
                      <a:ext cx="112320" cy="176400"/>
                      <a:chOff x="6660360" y="3040920"/>
                      <a:chExt cx="112320" cy="176400"/>
                    </a:xfrm>
                  </p:grpSpPr>
                  <p:sp>
                    <p:nvSpPr>
                      <p:cNvPr id="550" name=""/>
                      <p:cNvSpPr/>
                      <p:nvPr/>
                    </p:nvSpPr>
                    <p:spPr>
                      <a:xfrm>
                        <a:off x="6716520" y="304092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flipH="1">
                        <a:off x="6660360" y="304092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"/>
                      <p:cNvSpPr/>
                      <p:nvPr/>
                    </p:nvSpPr>
                    <p:spPr>
                      <a:xfrm flipH="1">
                        <a:off x="6661080" y="321732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3" name=""/>
                    <p:cNvGrpSpPr/>
                    <p:nvPr/>
                  </p:nvGrpSpPr>
                  <p:grpSpPr>
                    <a:xfrm>
                      <a:off x="6660360" y="3217320"/>
                      <a:ext cx="112320" cy="176400"/>
                      <a:chOff x="6660360" y="3217320"/>
                      <a:chExt cx="112320" cy="176400"/>
                    </a:xfrm>
                  </p:grpSpPr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6716520" y="321732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 flipH="1">
                        <a:off x="6660360" y="321732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" name=""/>
                      <p:cNvSpPr/>
                      <p:nvPr/>
                    </p:nvSpPr>
                    <p:spPr>
                      <a:xfrm flipH="1">
                        <a:off x="6661080" y="339372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6660360" y="2333880"/>
                      <a:ext cx="112320" cy="176400"/>
                      <a:chOff x="6660360" y="2333880"/>
                      <a:chExt cx="112320" cy="17640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6716520" y="233388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 flipH="1">
                        <a:off x="6660360" y="233388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"/>
                      <p:cNvSpPr/>
                      <p:nvPr/>
                    </p:nvSpPr>
                    <p:spPr>
                      <a:xfrm flipH="1">
                        <a:off x="6661080" y="251028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6660360" y="2157120"/>
                      <a:ext cx="112320" cy="176400"/>
                      <a:chOff x="6660360" y="2157120"/>
                      <a:chExt cx="112320" cy="176400"/>
                    </a:xfrm>
                  </p:grpSpPr>
                  <p:sp>
                    <p:nvSpPr>
                      <p:cNvPr id="562" name=""/>
                      <p:cNvSpPr/>
                      <p:nvPr/>
                    </p:nvSpPr>
                    <p:spPr>
                      <a:xfrm>
                        <a:off x="6716520" y="215712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3" name=""/>
                      <p:cNvSpPr/>
                      <p:nvPr/>
                    </p:nvSpPr>
                    <p:spPr>
                      <a:xfrm flipH="1">
                        <a:off x="6660360" y="215712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"/>
                      <p:cNvSpPr/>
                      <p:nvPr/>
                    </p:nvSpPr>
                    <p:spPr>
                      <a:xfrm flipH="1">
                        <a:off x="6661080" y="233352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5" name=""/>
                    <p:cNvGrpSpPr/>
                    <p:nvPr/>
                  </p:nvGrpSpPr>
                  <p:grpSpPr>
                    <a:xfrm>
                      <a:off x="6660360" y="1980720"/>
                      <a:ext cx="112320" cy="176400"/>
                      <a:chOff x="6660360" y="1980720"/>
                      <a:chExt cx="112320" cy="176400"/>
                    </a:xfrm>
                  </p:grpSpPr>
                  <p:sp>
                    <p:nvSpPr>
                      <p:cNvPr id="566" name=""/>
                      <p:cNvSpPr/>
                      <p:nvPr/>
                    </p:nvSpPr>
                    <p:spPr>
                      <a:xfrm>
                        <a:off x="6716520" y="198072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7" name=""/>
                      <p:cNvSpPr/>
                      <p:nvPr/>
                    </p:nvSpPr>
                    <p:spPr>
                      <a:xfrm flipH="1">
                        <a:off x="6660360" y="198072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8" name=""/>
                      <p:cNvSpPr/>
                      <p:nvPr/>
                    </p:nvSpPr>
                    <p:spPr>
                      <a:xfrm flipH="1">
                        <a:off x="6661080" y="215712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6660360" y="1803960"/>
                      <a:ext cx="112320" cy="176400"/>
                      <a:chOff x="6660360" y="1803960"/>
                      <a:chExt cx="112320" cy="176400"/>
                    </a:xfrm>
                  </p:grpSpPr>
                  <p:sp>
                    <p:nvSpPr>
                      <p:cNvPr id="570" name=""/>
                      <p:cNvSpPr/>
                      <p:nvPr/>
                    </p:nvSpPr>
                    <p:spPr>
                      <a:xfrm>
                        <a:off x="6716520" y="180396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 flipH="1">
                        <a:off x="6660360" y="18039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"/>
                      <p:cNvSpPr/>
                      <p:nvPr/>
                    </p:nvSpPr>
                    <p:spPr>
                      <a:xfrm flipH="1">
                        <a:off x="6661080" y="198036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6660360" y="1627560"/>
                      <a:ext cx="112320" cy="176400"/>
                      <a:chOff x="6660360" y="1627560"/>
                      <a:chExt cx="112320" cy="176400"/>
                    </a:xfrm>
                  </p:grpSpPr>
                  <p:sp>
                    <p:nvSpPr>
                      <p:cNvPr id="574" name=""/>
                      <p:cNvSpPr/>
                      <p:nvPr/>
                    </p:nvSpPr>
                    <p:spPr>
                      <a:xfrm>
                        <a:off x="6716520" y="162756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 flipH="1">
                        <a:off x="6660360" y="16275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 flipH="1">
                        <a:off x="6661080" y="180396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6660360" y="1450800"/>
                      <a:ext cx="112320" cy="176400"/>
                      <a:chOff x="6660360" y="1450800"/>
                      <a:chExt cx="112320" cy="17640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6716520" y="1450800"/>
                        <a:ext cx="0" cy="17640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H="1">
                        <a:off x="6660360" y="145080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 flipH="1">
                        <a:off x="6661080" y="1627200"/>
                        <a:ext cx="111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6695640" y="250992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6818040" y="252072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6588360" y="22460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4" name=""/>
                  <p:cNvSpPr/>
                  <p:nvPr/>
                </p:nvSpPr>
                <p:spPr>
                  <a:xfrm>
                    <a:off x="5257800" y="2521440"/>
                    <a:ext cx="3169800" cy="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" name=""/>
                <p:cNvSpPr/>
                <p:nvPr/>
              </p:nvSpPr>
              <p:spPr>
                <a:xfrm>
                  <a:off x="8423640" y="2494080"/>
                  <a:ext cx="328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6745680" y="99072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58c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6267240" y="1074600"/>
              <a:ext cx="932040" cy="2856240"/>
            </a:xfrm>
            <a:prstGeom prst="line">
              <a:avLst/>
            </a:prstGeom>
            <a:ln w="57240">
              <a:solidFill>
                <a:srgbClr val="c60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82720" y="264636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48720" y="2141640"/>
              <a:ext cx="10087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219320" y="1447920"/>
            <a:ext cx="3980520" cy="2665440"/>
            <a:chOff x="1219320" y="1447920"/>
            <a:chExt cx="3980520" cy="2665440"/>
          </a:xfrm>
        </p:grpSpPr>
        <p:grpSp>
          <p:nvGrpSpPr>
            <p:cNvPr id="591" name=""/>
            <p:cNvGrpSpPr/>
            <p:nvPr/>
          </p:nvGrpSpPr>
          <p:grpSpPr>
            <a:xfrm>
              <a:off x="1219320" y="1447920"/>
              <a:ext cx="3980520" cy="2665440"/>
              <a:chOff x="1219320" y="1447920"/>
              <a:chExt cx="3980520" cy="266544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1219320" y="1447920"/>
                <a:ext cx="3980520" cy="2665440"/>
                <a:chOff x="1219320" y="1447920"/>
                <a:chExt cx="3980520" cy="266544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1219320" y="1447920"/>
                  <a:ext cx="3657600" cy="2665440"/>
                  <a:chOff x="1219320" y="1447920"/>
                  <a:chExt cx="3657600" cy="2665440"/>
                </a:xfrm>
              </p:grpSpPr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1737360" y="1447920"/>
                    <a:ext cx="2719080" cy="2665440"/>
                    <a:chOff x="1737360" y="1447920"/>
                    <a:chExt cx="2719080" cy="266544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V="1">
                      <a:off x="2902680" y="1447920"/>
                      <a:ext cx="0" cy="2502000"/>
                    </a:xfrm>
                    <a:prstGeom prst="line">
                      <a:avLst/>
                    </a:prstGeom>
                    <a:ln w="9360">
                      <a:solidFill>
                        <a:srgbClr val="40458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2902680" y="3068640"/>
                      <a:ext cx="194040" cy="131040"/>
                      <a:chOff x="2902680" y="3068640"/>
                      <a:chExt cx="194040" cy="131040"/>
                    </a:xfrm>
                  </p:grpSpPr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290268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290268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309672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0" name=""/>
                    <p:cNvGrpSpPr/>
                    <p:nvPr/>
                  </p:nvGrpSpPr>
                  <p:grpSpPr>
                    <a:xfrm>
                      <a:off x="3096720" y="3068640"/>
                      <a:ext cx="194040" cy="131040"/>
                      <a:chOff x="3096720" y="3068640"/>
                      <a:chExt cx="194040" cy="131040"/>
                    </a:xfrm>
                  </p:grpSpPr>
                  <p:sp>
                    <p:nvSpPr>
                      <p:cNvPr id="601" name=""/>
                      <p:cNvSpPr/>
                      <p:nvPr/>
                    </p:nvSpPr>
                    <p:spPr>
                      <a:xfrm>
                        <a:off x="309672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"/>
                      <p:cNvSpPr/>
                      <p:nvPr/>
                    </p:nvSpPr>
                    <p:spPr>
                      <a:xfrm>
                        <a:off x="309672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"/>
                      <p:cNvSpPr/>
                      <p:nvPr/>
                    </p:nvSpPr>
                    <p:spPr>
                      <a:xfrm>
                        <a:off x="329076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4" name=""/>
                    <p:cNvGrpSpPr/>
                    <p:nvPr/>
                  </p:nvGrpSpPr>
                  <p:grpSpPr>
                    <a:xfrm>
                      <a:off x="3290760" y="3068640"/>
                      <a:ext cx="194040" cy="131040"/>
                      <a:chOff x="3290760" y="3068640"/>
                      <a:chExt cx="194040" cy="131040"/>
                    </a:xfrm>
                  </p:grpSpPr>
                  <p:sp>
                    <p:nvSpPr>
                      <p:cNvPr id="605" name=""/>
                      <p:cNvSpPr/>
                      <p:nvPr/>
                    </p:nvSpPr>
                    <p:spPr>
                      <a:xfrm>
                        <a:off x="329076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"/>
                      <p:cNvSpPr/>
                      <p:nvPr/>
                    </p:nvSpPr>
                    <p:spPr>
                      <a:xfrm>
                        <a:off x="329076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"/>
                      <p:cNvSpPr/>
                      <p:nvPr/>
                    </p:nvSpPr>
                    <p:spPr>
                      <a:xfrm>
                        <a:off x="348480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3485880" y="3068640"/>
                      <a:ext cx="194040" cy="131040"/>
                      <a:chOff x="3485880" y="3068640"/>
                      <a:chExt cx="194040" cy="131040"/>
                    </a:xfrm>
                  </p:grpSpPr>
                  <p:sp>
                    <p:nvSpPr>
                      <p:cNvPr id="609" name=""/>
                      <p:cNvSpPr/>
                      <p:nvPr/>
                    </p:nvSpPr>
                    <p:spPr>
                      <a:xfrm>
                        <a:off x="348588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348588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367992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"/>
                    <p:cNvGrpSpPr/>
                    <p:nvPr/>
                  </p:nvGrpSpPr>
                  <p:grpSpPr>
                    <a:xfrm>
                      <a:off x="3679920" y="3068640"/>
                      <a:ext cx="194040" cy="131040"/>
                      <a:chOff x="3679920" y="3068640"/>
                      <a:chExt cx="194040" cy="131040"/>
                    </a:xfrm>
                  </p:grpSpPr>
                  <p:sp>
                    <p:nvSpPr>
                      <p:cNvPr id="613" name=""/>
                      <p:cNvSpPr/>
                      <p:nvPr/>
                    </p:nvSpPr>
                    <p:spPr>
                      <a:xfrm>
                        <a:off x="367992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"/>
                      <p:cNvSpPr/>
                      <p:nvPr/>
                    </p:nvSpPr>
                    <p:spPr>
                      <a:xfrm>
                        <a:off x="367992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"/>
                      <p:cNvSpPr/>
                      <p:nvPr/>
                    </p:nvSpPr>
                    <p:spPr>
                      <a:xfrm>
                        <a:off x="387396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6" name=""/>
                    <p:cNvGrpSpPr/>
                    <p:nvPr/>
                  </p:nvGrpSpPr>
                  <p:grpSpPr>
                    <a:xfrm>
                      <a:off x="3873960" y="3068640"/>
                      <a:ext cx="194040" cy="131040"/>
                      <a:chOff x="3873960" y="3068640"/>
                      <a:chExt cx="194040" cy="131040"/>
                    </a:xfrm>
                  </p:grpSpPr>
                  <p:sp>
                    <p:nvSpPr>
                      <p:cNvPr id="617" name=""/>
                      <p:cNvSpPr/>
                      <p:nvPr/>
                    </p:nvSpPr>
                    <p:spPr>
                      <a:xfrm>
                        <a:off x="387396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"/>
                      <p:cNvSpPr/>
                      <p:nvPr/>
                    </p:nvSpPr>
                    <p:spPr>
                      <a:xfrm>
                        <a:off x="387396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"/>
                      <p:cNvSpPr/>
                      <p:nvPr/>
                    </p:nvSpPr>
                    <p:spPr>
                      <a:xfrm>
                        <a:off x="406800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0" name=""/>
                    <p:cNvGrpSpPr/>
                    <p:nvPr/>
                  </p:nvGrpSpPr>
                  <p:grpSpPr>
                    <a:xfrm>
                      <a:off x="4068360" y="3068640"/>
                      <a:ext cx="194040" cy="131040"/>
                      <a:chOff x="4068360" y="3068640"/>
                      <a:chExt cx="194040" cy="131040"/>
                    </a:xfrm>
                  </p:grpSpPr>
                  <p:sp>
                    <p:nvSpPr>
                      <p:cNvPr id="621" name=""/>
                      <p:cNvSpPr/>
                      <p:nvPr/>
                    </p:nvSpPr>
                    <p:spPr>
                      <a:xfrm>
                        <a:off x="406836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"/>
                      <p:cNvSpPr/>
                      <p:nvPr/>
                    </p:nvSpPr>
                    <p:spPr>
                      <a:xfrm>
                        <a:off x="406836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"/>
                      <p:cNvSpPr/>
                      <p:nvPr/>
                    </p:nvSpPr>
                    <p:spPr>
                      <a:xfrm>
                        <a:off x="426240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4" name=""/>
                    <p:cNvGrpSpPr/>
                    <p:nvPr/>
                  </p:nvGrpSpPr>
                  <p:grpSpPr>
                    <a:xfrm>
                      <a:off x="4262400" y="3068640"/>
                      <a:ext cx="194040" cy="131040"/>
                      <a:chOff x="4262400" y="3068640"/>
                      <a:chExt cx="194040" cy="131040"/>
                    </a:xfrm>
                  </p:grpSpPr>
                  <p:sp>
                    <p:nvSpPr>
                      <p:cNvPr id="625" name=""/>
                      <p:cNvSpPr/>
                      <p:nvPr/>
                    </p:nvSpPr>
                    <p:spPr>
                      <a:xfrm>
                        <a:off x="426240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"/>
                      <p:cNvSpPr/>
                      <p:nvPr/>
                    </p:nvSpPr>
                    <p:spPr>
                      <a:xfrm>
                        <a:off x="426240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"/>
                      <p:cNvSpPr/>
                      <p:nvPr/>
                    </p:nvSpPr>
                    <p:spPr>
                      <a:xfrm>
                        <a:off x="445644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2708640" y="3068640"/>
                      <a:ext cx="194040" cy="131040"/>
                      <a:chOff x="2708640" y="3068640"/>
                      <a:chExt cx="194040" cy="131040"/>
                    </a:xfrm>
                  </p:grpSpPr>
                  <p:sp>
                    <p:nvSpPr>
                      <p:cNvPr id="629" name=""/>
                      <p:cNvSpPr/>
                      <p:nvPr/>
                    </p:nvSpPr>
                    <p:spPr>
                      <a:xfrm>
                        <a:off x="270864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"/>
                      <p:cNvSpPr/>
                      <p:nvPr/>
                    </p:nvSpPr>
                    <p:spPr>
                      <a:xfrm>
                        <a:off x="270864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"/>
                      <p:cNvSpPr/>
                      <p:nvPr/>
                    </p:nvSpPr>
                    <p:spPr>
                      <a:xfrm>
                        <a:off x="290268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2" name=""/>
                    <p:cNvGrpSpPr/>
                    <p:nvPr/>
                  </p:nvGrpSpPr>
                  <p:grpSpPr>
                    <a:xfrm>
                      <a:off x="2514600" y="3068640"/>
                      <a:ext cx="194040" cy="131040"/>
                      <a:chOff x="2514600" y="3068640"/>
                      <a:chExt cx="194040" cy="131040"/>
                    </a:xfrm>
                  </p:grpSpPr>
                  <p:sp>
                    <p:nvSpPr>
                      <p:cNvPr id="633" name=""/>
                      <p:cNvSpPr/>
                      <p:nvPr/>
                    </p:nvSpPr>
                    <p:spPr>
                      <a:xfrm>
                        <a:off x="251460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"/>
                      <p:cNvSpPr/>
                      <p:nvPr/>
                    </p:nvSpPr>
                    <p:spPr>
                      <a:xfrm>
                        <a:off x="251460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"/>
                      <p:cNvSpPr/>
                      <p:nvPr/>
                    </p:nvSpPr>
                    <p:spPr>
                      <a:xfrm>
                        <a:off x="270864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6" name=""/>
                    <p:cNvGrpSpPr/>
                    <p:nvPr/>
                  </p:nvGrpSpPr>
                  <p:grpSpPr>
                    <a:xfrm>
                      <a:off x="2320200" y="3068640"/>
                      <a:ext cx="194040" cy="131040"/>
                      <a:chOff x="2320200" y="3068640"/>
                      <a:chExt cx="194040" cy="131040"/>
                    </a:xfrm>
                  </p:grpSpPr>
                  <p:sp>
                    <p:nvSpPr>
                      <p:cNvPr id="637" name=""/>
                      <p:cNvSpPr/>
                      <p:nvPr/>
                    </p:nvSpPr>
                    <p:spPr>
                      <a:xfrm>
                        <a:off x="232020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"/>
                      <p:cNvSpPr/>
                      <p:nvPr/>
                    </p:nvSpPr>
                    <p:spPr>
                      <a:xfrm>
                        <a:off x="232020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251424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0" name=""/>
                    <p:cNvGrpSpPr/>
                    <p:nvPr/>
                  </p:nvGrpSpPr>
                  <p:grpSpPr>
                    <a:xfrm>
                      <a:off x="2125440" y="3068640"/>
                      <a:ext cx="194040" cy="131040"/>
                      <a:chOff x="2125440" y="3068640"/>
                      <a:chExt cx="194040" cy="131040"/>
                    </a:xfrm>
                  </p:grpSpPr>
                  <p:sp>
                    <p:nvSpPr>
                      <p:cNvPr id="641" name=""/>
                      <p:cNvSpPr/>
                      <p:nvPr/>
                    </p:nvSpPr>
                    <p:spPr>
                      <a:xfrm>
                        <a:off x="212544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"/>
                      <p:cNvSpPr/>
                      <p:nvPr/>
                    </p:nvSpPr>
                    <p:spPr>
                      <a:xfrm>
                        <a:off x="212544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231948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4" name=""/>
                    <p:cNvGrpSpPr/>
                    <p:nvPr/>
                  </p:nvGrpSpPr>
                  <p:grpSpPr>
                    <a:xfrm>
                      <a:off x="1931400" y="3068640"/>
                      <a:ext cx="194040" cy="131040"/>
                      <a:chOff x="1931400" y="3068640"/>
                      <a:chExt cx="194040" cy="131040"/>
                    </a:xfrm>
                  </p:grpSpPr>
                  <p:sp>
                    <p:nvSpPr>
                      <p:cNvPr id="645" name=""/>
                      <p:cNvSpPr/>
                      <p:nvPr/>
                    </p:nvSpPr>
                    <p:spPr>
                      <a:xfrm>
                        <a:off x="193140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6" name=""/>
                      <p:cNvSpPr/>
                      <p:nvPr/>
                    </p:nvSpPr>
                    <p:spPr>
                      <a:xfrm>
                        <a:off x="193140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7" name=""/>
                      <p:cNvSpPr/>
                      <p:nvPr/>
                    </p:nvSpPr>
                    <p:spPr>
                      <a:xfrm>
                        <a:off x="212544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8" name=""/>
                    <p:cNvGrpSpPr/>
                    <p:nvPr/>
                  </p:nvGrpSpPr>
                  <p:grpSpPr>
                    <a:xfrm>
                      <a:off x="1737360" y="3068640"/>
                      <a:ext cx="194040" cy="131040"/>
                      <a:chOff x="1737360" y="3068640"/>
                      <a:chExt cx="194040" cy="131040"/>
                    </a:xfrm>
                  </p:grpSpPr>
                  <p:sp>
                    <p:nvSpPr>
                      <p:cNvPr id="649" name=""/>
                      <p:cNvSpPr/>
                      <p:nvPr/>
                    </p:nvSpPr>
                    <p:spPr>
                      <a:xfrm>
                        <a:off x="1737360" y="3134160"/>
                        <a:ext cx="194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"/>
                      <p:cNvSpPr/>
                      <p:nvPr/>
                    </p:nvSpPr>
                    <p:spPr>
                      <a:xfrm>
                        <a:off x="1737360" y="3068640"/>
                        <a:ext cx="0" cy="1310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1" name=""/>
                      <p:cNvSpPr/>
                      <p:nvPr/>
                    </p:nvSpPr>
                    <p:spPr>
                      <a:xfrm>
                        <a:off x="1931400" y="3068640"/>
                        <a:ext cx="0" cy="13032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2" name=""/>
                    <p:cNvGrpSpPr/>
                    <p:nvPr/>
                  </p:nvGrpSpPr>
                  <p:grpSpPr>
                    <a:xfrm>
                      <a:off x="2837880" y="3133440"/>
                      <a:ext cx="129600" cy="195840"/>
                      <a:chOff x="2837880" y="3133440"/>
                      <a:chExt cx="129600" cy="195840"/>
                    </a:xfrm>
                  </p:grpSpPr>
                  <p:sp>
                    <p:nvSpPr>
                      <p:cNvPr id="653" name=""/>
                      <p:cNvSpPr/>
                      <p:nvPr/>
                    </p:nvSpPr>
                    <p:spPr>
                      <a:xfrm>
                        <a:off x="2902680" y="3133440"/>
                        <a:ext cx="0" cy="1958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 flipH="1">
                        <a:off x="2837880" y="313344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 flipH="1">
                        <a:off x="2838600" y="332928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6" name=""/>
                    <p:cNvGrpSpPr/>
                    <p:nvPr/>
                  </p:nvGrpSpPr>
                  <p:grpSpPr>
                    <a:xfrm>
                      <a:off x="2837880" y="3330000"/>
                      <a:ext cx="129600" cy="195480"/>
                      <a:chOff x="2837880" y="3330000"/>
                      <a:chExt cx="129600" cy="195480"/>
                    </a:xfrm>
                  </p:grpSpPr>
                  <p:sp>
                    <p:nvSpPr>
                      <p:cNvPr id="657" name=""/>
                      <p:cNvSpPr/>
                      <p:nvPr/>
                    </p:nvSpPr>
                    <p:spPr>
                      <a:xfrm>
                        <a:off x="2902680" y="3330000"/>
                        <a:ext cx="0" cy="195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 flipH="1">
                        <a:off x="2837880" y="333000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 flipH="1">
                        <a:off x="2838600" y="352548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0" name=""/>
                    <p:cNvGrpSpPr/>
                    <p:nvPr/>
                  </p:nvGrpSpPr>
                  <p:grpSpPr>
                    <a:xfrm>
                      <a:off x="2837880" y="3525840"/>
                      <a:ext cx="129600" cy="195840"/>
                      <a:chOff x="2837880" y="3525840"/>
                      <a:chExt cx="129600" cy="195840"/>
                    </a:xfrm>
                  </p:grpSpPr>
                  <p:sp>
                    <p:nvSpPr>
                      <p:cNvPr id="661" name=""/>
                      <p:cNvSpPr/>
                      <p:nvPr/>
                    </p:nvSpPr>
                    <p:spPr>
                      <a:xfrm>
                        <a:off x="2902680" y="3525840"/>
                        <a:ext cx="0" cy="1958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 flipH="1">
                        <a:off x="2837880" y="352584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 flipH="1">
                        <a:off x="2838600" y="372168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4" name=""/>
                    <p:cNvGrpSpPr/>
                    <p:nvPr/>
                  </p:nvGrpSpPr>
                  <p:grpSpPr>
                    <a:xfrm>
                      <a:off x="2837880" y="3721680"/>
                      <a:ext cx="129600" cy="195480"/>
                      <a:chOff x="2837880" y="3721680"/>
                      <a:chExt cx="129600" cy="195480"/>
                    </a:xfrm>
                  </p:grpSpPr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2902680" y="3721680"/>
                        <a:ext cx="0" cy="195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 flipH="1">
                        <a:off x="2837880" y="372168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7" name=""/>
                      <p:cNvSpPr/>
                      <p:nvPr/>
                    </p:nvSpPr>
                    <p:spPr>
                      <a:xfrm flipH="1">
                        <a:off x="2838600" y="391716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2837880" y="3917520"/>
                      <a:ext cx="129600" cy="195840"/>
                      <a:chOff x="2837880" y="3917520"/>
                      <a:chExt cx="129600" cy="195840"/>
                    </a:xfrm>
                  </p:grpSpPr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2902680" y="3917520"/>
                        <a:ext cx="0" cy="1958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 flipH="1">
                        <a:off x="2837880" y="391752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"/>
                      <p:cNvSpPr/>
                      <p:nvPr/>
                    </p:nvSpPr>
                    <p:spPr>
                      <a:xfrm flipH="1">
                        <a:off x="2838600" y="411336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2" name=""/>
                    <p:cNvGrpSpPr/>
                    <p:nvPr/>
                  </p:nvGrpSpPr>
                  <p:grpSpPr>
                    <a:xfrm>
                      <a:off x="2837880" y="2937600"/>
                      <a:ext cx="129600" cy="195480"/>
                      <a:chOff x="2837880" y="2937600"/>
                      <a:chExt cx="129600" cy="195480"/>
                    </a:xfrm>
                  </p:grpSpPr>
                  <p:sp>
                    <p:nvSpPr>
                      <p:cNvPr id="673" name=""/>
                      <p:cNvSpPr/>
                      <p:nvPr/>
                    </p:nvSpPr>
                    <p:spPr>
                      <a:xfrm>
                        <a:off x="2902680" y="2937600"/>
                        <a:ext cx="0" cy="195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 flipH="1">
                        <a:off x="2837880" y="293760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 flipH="1">
                        <a:off x="2838600" y="313308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6" name=""/>
                    <p:cNvGrpSpPr/>
                    <p:nvPr/>
                  </p:nvGrpSpPr>
                  <p:grpSpPr>
                    <a:xfrm>
                      <a:off x="2837880" y="2741760"/>
                      <a:ext cx="129600" cy="195840"/>
                      <a:chOff x="2837880" y="2741760"/>
                      <a:chExt cx="129600" cy="195840"/>
                    </a:xfrm>
                  </p:grpSpPr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2902680" y="2741760"/>
                        <a:ext cx="0" cy="1958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8" name=""/>
                      <p:cNvSpPr/>
                      <p:nvPr/>
                    </p:nvSpPr>
                    <p:spPr>
                      <a:xfrm flipH="1">
                        <a:off x="2837880" y="274176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"/>
                      <p:cNvSpPr/>
                      <p:nvPr/>
                    </p:nvSpPr>
                    <p:spPr>
                      <a:xfrm flipH="1">
                        <a:off x="2838600" y="293760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0" name=""/>
                    <p:cNvGrpSpPr/>
                    <p:nvPr/>
                  </p:nvGrpSpPr>
                  <p:grpSpPr>
                    <a:xfrm>
                      <a:off x="2837880" y="2545920"/>
                      <a:ext cx="129600" cy="195480"/>
                      <a:chOff x="2837880" y="2545920"/>
                      <a:chExt cx="129600" cy="195480"/>
                    </a:xfrm>
                  </p:grpSpPr>
                  <p:sp>
                    <p:nvSpPr>
                      <p:cNvPr id="681" name=""/>
                      <p:cNvSpPr/>
                      <p:nvPr/>
                    </p:nvSpPr>
                    <p:spPr>
                      <a:xfrm>
                        <a:off x="2902680" y="2545920"/>
                        <a:ext cx="0" cy="195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"/>
                      <p:cNvSpPr/>
                      <p:nvPr/>
                    </p:nvSpPr>
                    <p:spPr>
                      <a:xfrm flipH="1">
                        <a:off x="2837880" y="254592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"/>
                      <p:cNvSpPr/>
                      <p:nvPr/>
                    </p:nvSpPr>
                    <p:spPr>
                      <a:xfrm flipH="1">
                        <a:off x="2838600" y="274140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4" name=""/>
                    <p:cNvGrpSpPr/>
                    <p:nvPr/>
                  </p:nvGrpSpPr>
                  <p:grpSpPr>
                    <a:xfrm>
                      <a:off x="2837880" y="2349720"/>
                      <a:ext cx="129600" cy="195840"/>
                      <a:chOff x="2837880" y="2349720"/>
                      <a:chExt cx="129600" cy="195840"/>
                    </a:xfrm>
                  </p:grpSpPr>
                  <p:sp>
                    <p:nvSpPr>
                      <p:cNvPr id="685" name=""/>
                      <p:cNvSpPr/>
                      <p:nvPr/>
                    </p:nvSpPr>
                    <p:spPr>
                      <a:xfrm>
                        <a:off x="2902680" y="2349720"/>
                        <a:ext cx="0" cy="1958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6" name=""/>
                      <p:cNvSpPr/>
                      <p:nvPr/>
                    </p:nvSpPr>
                    <p:spPr>
                      <a:xfrm flipH="1">
                        <a:off x="2837880" y="234972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 flipH="1">
                        <a:off x="2838600" y="254556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8" name=""/>
                    <p:cNvGrpSpPr/>
                    <p:nvPr/>
                  </p:nvGrpSpPr>
                  <p:grpSpPr>
                    <a:xfrm>
                      <a:off x="2837880" y="2154240"/>
                      <a:ext cx="129600" cy="195480"/>
                      <a:chOff x="2837880" y="2154240"/>
                      <a:chExt cx="129600" cy="195480"/>
                    </a:xfrm>
                  </p:grpSpPr>
                  <p:sp>
                    <p:nvSpPr>
                      <p:cNvPr id="689" name=""/>
                      <p:cNvSpPr/>
                      <p:nvPr/>
                    </p:nvSpPr>
                    <p:spPr>
                      <a:xfrm>
                        <a:off x="2902680" y="2154240"/>
                        <a:ext cx="0" cy="19548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 flipH="1">
                        <a:off x="2837880" y="215424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 flipH="1">
                        <a:off x="2838600" y="234972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2" name=""/>
                    <p:cNvGrpSpPr/>
                    <p:nvPr/>
                  </p:nvGrpSpPr>
                  <p:grpSpPr>
                    <a:xfrm>
                      <a:off x="2837880" y="1958040"/>
                      <a:ext cx="129600" cy="195840"/>
                      <a:chOff x="2837880" y="1958040"/>
                      <a:chExt cx="129600" cy="195840"/>
                    </a:xfrm>
                  </p:grpSpPr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2902680" y="1958040"/>
                        <a:ext cx="0" cy="19584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 flipH="1">
                        <a:off x="2837880" y="1958040"/>
                        <a:ext cx="129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 flipH="1">
                        <a:off x="2838600" y="2153880"/>
                        <a:ext cx="128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40458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0458c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2876760" y="31341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3019680" y="314496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2756880" y="284040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9" name=""/>
                  <p:cNvSpPr/>
                  <p:nvPr/>
                </p:nvSpPr>
                <p:spPr>
                  <a:xfrm>
                    <a:off x="1219320" y="3145680"/>
                    <a:ext cx="3657600" cy="0"/>
                  </a:xfrm>
                  <a:prstGeom prst="line">
                    <a:avLst/>
                  </a:prstGeom>
                  <a:ln w="9360">
                    <a:solidFill>
                      <a:srgbClr val="40458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0458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>
                  <a:off x="4871160" y="3114720"/>
                  <a:ext cx="328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40458c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2935800" y="144792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58c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2550240" y="2816280"/>
              <a:ext cx="10087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2190960" y="1736280"/>
              <a:ext cx="1800000" cy="2087640"/>
            </a:xfrm>
            <a:prstGeom prst="line">
              <a:avLst/>
            </a:prstGeom>
            <a:ln w="57240">
              <a:solidFill>
                <a:srgbClr val="932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33520" y="2286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пределите знак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K 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и значение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10288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 flipV="1">
            <a:off x="4140360" y="333360"/>
            <a:ext cx="0" cy="6120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3716280"/>
            <a:ext cx="63374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780000" y="3645000"/>
            <a:ext cx="360360" cy="142920"/>
            <a:chOff x="3780000" y="3645000"/>
            <a:chExt cx="360360" cy="142920"/>
          </a:xfrm>
        </p:grpSpPr>
        <p:sp>
          <p:nvSpPr>
            <p:cNvPr id="709" name=""/>
            <p:cNvSpPr/>
            <p:nvPr/>
          </p:nvSpPr>
          <p:spPr>
            <a:xfrm>
              <a:off x="378000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8000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4036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3419640" y="3645000"/>
            <a:ext cx="360360" cy="142920"/>
            <a:chOff x="3419640" y="3645000"/>
            <a:chExt cx="360360" cy="142920"/>
          </a:xfrm>
        </p:grpSpPr>
        <p:sp>
          <p:nvSpPr>
            <p:cNvPr id="713" name=""/>
            <p:cNvSpPr/>
            <p:nvPr/>
          </p:nvSpPr>
          <p:spPr>
            <a:xfrm>
              <a:off x="341964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1964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78000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140360" y="3645000"/>
            <a:ext cx="360360" cy="142920"/>
            <a:chOff x="4140360" y="3645000"/>
            <a:chExt cx="360360" cy="142920"/>
          </a:xfrm>
        </p:grpSpPr>
        <p:sp>
          <p:nvSpPr>
            <p:cNvPr id="717" name=""/>
            <p:cNvSpPr/>
            <p:nvPr/>
          </p:nvSpPr>
          <p:spPr>
            <a:xfrm>
              <a:off x="414036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4036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0072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859280" y="3645000"/>
            <a:ext cx="360360" cy="142920"/>
            <a:chOff x="4859280" y="3645000"/>
            <a:chExt cx="360360" cy="142920"/>
          </a:xfrm>
        </p:grpSpPr>
        <p:sp>
          <p:nvSpPr>
            <p:cNvPr id="721" name=""/>
            <p:cNvSpPr/>
            <p:nvPr/>
          </p:nvSpPr>
          <p:spPr>
            <a:xfrm>
              <a:off x="485928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5928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1964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4067280" y="3715920"/>
            <a:ext cx="142920" cy="360360"/>
            <a:chOff x="4067280" y="3715920"/>
            <a:chExt cx="142920" cy="360360"/>
          </a:xfrm>
        </p:grpSpPr>
        <p:sp>
          <p:nvSpPr>
            <p:cNvPr id="725" name=""/>
            <p:cNvSpPr/>
            <p:nvPr/>
          </p:nvSpPr>
          <p:spPr>
            <a:xfrm flipV="1">
              <a:off x="4138560" y="371592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67280" y="407628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67280" y="371592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219640" y="3645000"/>
            <a:ext cx="360360" cy="142920"/>
            <a:chOff x="5219640" y="3645000"/>
            <a:chExt cx="360360" cy="142920"/>
          </a:xfrm>
        </p:grpSpPr>
        <p:sp>
          <p:nvSpPr>
            <p:cNvPr id="729" name=""/>
            <p:cNvSpPr/>
            <p:nvPr/>
          </p:nvSpPr>
          <p:spPr>
            <a:xfrm>
              <a:off x="521964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1964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8000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067280" y="4076280"/>
            <a:ext cx="142920" cy="360360"/>
            <a:chOff x="4067280" y="4076280"/>
            <a:chExt cx="142920" cy="360360"/>
          </a:xfrm>
        </p:grpSpPr>
        <p:sp>
          <p:nvSpPr>
            <p:cNvPr id="733" name=""/>
            <p:cNvSpPr/>
            <p:nvPr/>
          </p:nvSpPr>
          <p:spPr>
            <a:xfrm flipV="1">
              <a:off x="4138560" y="407628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67280" y="443664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67280" y="407628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067280" y="4436640"/>
            <a:ext cx="142920" cy="360360"/>
            <a:chOff x="4067280" y="4436640"/>
            <a:chExt cx="142920" cy="360360"/>
          </a:xfrm>
        </p:grpSpPr>
        <p:sp>
          <p:nvSpPr>
            <p:cNvPr id="737" name=""/>
            <p:cNvSpPr/>
            <p:nvPr/>
          </p:nvSpPr>
          <p:spPr>
            <a:xfrm flipV="1">
              <a:off x="4138560" y="443664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67280" y="479700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67280" y="443664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4067280" y="3357360"/>
            <a:ext cx="142920" cy="360360"/>
            <a:chOff x="4067280" y="3357360"/>
            <a:chExt cx="142920" cy="360360"/>
          </a:xfrm>
        </p:grpSpPr>
        <p:sp>
          <p:nvSpPr>
            <p:cNvPr id="741" name=""/>
            <p:cNvSpPr/>
            <p:nvPr/>
          </p:nvSpPr>
          <p:spPr>
            <a:xfrm flipV="1">
              <a:off x="4138560" y="335736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067280" y="371772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67280" y="335736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067280" y="2997000"/>
            <a:ext cx="142920" cy="360360"/>
            <a:chOff x="4067280" y="2997000"/>
            <a:chExt cx="142920" cy="360360"/>
          </a:xfrm>
        </p:grpSpPr>
        <p:sp>
          <p:nvSpPr>
            <p:cNvPr id="745" name=""/>
            <p:cNvSpPr/>
            <p:nvPr/>
          </p:nvSpPr>
          <p:spPr>
            <a:xfrm flipV="1">
              <a:off x="4138560" y="299700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67280" y="335736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67280" y="299700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067280" y="2636640"/>
            <a:ext cx="142920" cy="360360"/>
            <a:chOff x="4067280" y="2636640"/>
            <a:chExt cx="142920" cy="360360"/>
          </a:xfrm>
        </p:grpSpPr>
        <p:sp>
          <p:nvSpPr>
            <p:cNvPr id="749" name=""/>
            <p:cNvSpPr/>
            <p:nvPr/>
          </p:nvSpPr>
          <p:spPr>
            <a:xfrm flipV="1">
              <a:off x="4138560" y="263664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67280" y="299700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67280" y="263664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219800" y="34545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07304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34376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767760" y="321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067280" y="4797000"/>
            <a:ext cx="142920" cy="360360"/>
            <a:chOff x="4067280" y="4797000"/>
            <a:chExt cx="142920" cy="360360"/>
          </a:xfrm>
        </p:grpSpPr>
        <p:sp>
          <p:nvSpPr>
            <p:cNvPr id="757" name=""/>
            <p:cNvSpPr/>
            <p:nvPr/>
          </p:nvSpPr>
          <p:spPr>
            <a:xfrm flipV="1">
              <a:off x="4138560" y="479700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7280" y="515736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67280" y="479700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4067280" y="5157360"/>
            <a:ext cx="142920" cy="360360"/>
            <a:chOff x="4067280" y="5157360"/>
            <a:chExt cx="142920" cy="360360"/>
          </a:xfrm>
        </p:grpSpPr>
        <p:sp>
          <p:nvSpPr>
            <p:cNvPr id="761" name=""/>
            <p:cNvSpPr/>
            <p:nvPr/>
          </p:nvSpPr>
          <p:spPr>
            <a:xfrm flipV="1">
              <a:off x="4138560" y="515736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67280" y="551772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67280" y="515736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580000" y="3645000"/>
            <a:ext cx="360360" cy="142920"/>
            <a:chOff x="5580000" y="3645000"/>
            <a:chExt cx="360360" cy="142920"/>
          </a:xfrm>
        </p:grpSpPr>
        <p:sp>
          <p:nvSpPr>
            <p:cNvPr id="765" name=""/>
            <p:cNvSpPr/>
            <p:nvPr/>
          </p:nvSpPr>
          <p:spPr>
            <a:xfrm>
              <a:off x="558000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8000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4036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059280" y="3645000"/>
            <a:ext cx="360360" cy="142920"/>
            <a:chOff x="3059280" y="3645000"/>
            <a:chExt cx="360360" cy="142920"/>
          </a:xfrm>
        </p:grpSpPr>
        <p:sp>
          <p:nvSpPr>
            <p:cNvPr id="769" name=""/>
            <p:cNvSpPr/>
            <p:nvPr/>
          </p:nvSpPr>
          <p:spPr>
            <a:xfrm>
              <a:off x="305928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5928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1964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700360" y="3645000"/>
            <a:ext cx="360360" cy="142920"/>
            <a:chOff x="2700360" y="3645000"/>
            <a:chExt cx="360360" cy="142920"/>
          </a:xfrm>
        </p:grpSpPr>
        <p:sp>
          <p:nvSpPr>
            <p:cNvPr id="773" name=""/>
            <p:cNvSpPr/>
            <p:nvPr/>
          </p:nvSpPr>
          <p:spPr>
            <a:xfrm>
              <a:off x="270036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036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6072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2340000" y="3645000"/>
            <a:ext cx="360360" cy="142920"/>
            <a:chOff x="2340000" y="3645000"/>
            <a:chExt cx="360360" cy="142920"/>
          </a:xfrm>
        </p:grpSpPr>
        <p:sp>
          <p:nvSpPr>
            <p:cNvPr id="777" name=""/>
            <p:cNvSpPr/>
            <p:nvPr/>
          </p:nvSpPr>
          <p:spPr>
            <a:xfrm>
              <a:off x="2340000" y="3716280"/>
              <a:ext cx="3603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4000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00360" y="3645000"/>
              <a:ext cx="0" cy="142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4067280" y="1915920"/>
            <a:ext cx="142920" cy="360360"/>
            <a:chOff x="4067280" y="1915920"/>
            <a:chExt cx="142920" cy="360360"/>
          </a:xfrm>
        </p:grpSpPr>
        <p:sp>
          <p:nvSpPr>
            <p:cNvPr id="781" name=""/>
            <p:cNvSpPr/>
            <p:nvPr/>
          </p:nvSpPr>
          <p:spPr>
            <a:xfrm flipV="1">
              <a:off x="4138560" y="191592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67280" y="227628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67280" y="191592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067280" y="2276280"/>
            <a:ext cx="142920" cy="360360"/>
            <a:chOff x="4067280" y="2276280"/>
            <a:chExt cx="142920" cy="360360"/>
          </a:xfrm>
        </p:grpSpPr>
        <p:sp>
          <p:nvSpPr>
            <p:cNvPr id="785" name=""/>
            <p:cNvSpPr/>
            <p:nvPr/>
          </p:nvSpPr>
          <p:spPr>
            <a:xfrm flipV="1">
              <a:off x="4138560" y="2276280"/>
              <a:ext cx="0" cy="3603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67280" y="263664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067280" y="2276280"/>
              <a:ext cx="142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3710160" y="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916000" y="692280"/>
            <a:ext cx="2879640" cy="5256000"/>
          </a:xfrm>
          <a:prstGeom prst="line">
            <a:avLst/>
          </a:prstGeom>
          <a:ln w="57240">
            <a:solidFill>
              <a:srgbClr val="c6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555640" y="260280"/>
            <a:ext cx="2879640" cy="5256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708000" y="1052640"/>
            <a:ext cx="2879640" cy="525600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7628600">
            <a:off x="5370120" y="975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Y=2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7857200">
            <a:off x="6106680" y="153540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Y=2x-5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18284400">
            <a:off x="4341600" y="37476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Y=2x+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781440" y="23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781440" y="530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048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9-04-02T10:13:52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